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08E25-23B0-4FB4-8AC7-37B23A44E1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 purpose was to support the development of the PHIA program, practical not research orien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created the questions, modified them based on feedback from the ACHD Training committee and the PHIA steering committe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ept it relatively short, aiming for 5-10 minutes to comple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59550-C88E-43CA-8CC5-4FAFC9AF0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1438E-7FCC-47E2-BAE3-1F2CF828C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70A70-A76F-4B3D-ACBA-1E7B851E2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B4174-B2A4-4876-9407-984194BEA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B6236-3197-4FD6-ACCF-89EAF3F7D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52CD7-C4B7-40EC-AEE4-B46D6EA27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88BA5-C7FC-41A4-8829-B96B5DC3F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36EDA-B5C6-4C16-ABBD-06021AEF6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669A6-A8B9-46A7-A9CC-94C0C012E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066DF-A319-4919-A61F-34A84E19E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B662A-7598-4606-8F63-52257BB0E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650F8-2C5C-412E-9EE0-2BC87AD3B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57995-D86D-4E13-BA81-2A025DDCC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8ADA0-B267-4631-8C82-04CBC55D9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C22E5-8982-4196-88F9-F503E558C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F7646-7297-4D64-B114-AAEB140BC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41CFE-62F2-49C4-B804-B2E1CC4B7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7A159-4BFE-47AE-923D-16F09E3E2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49769-6E9D-4C8A-8601-D209D5786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9D0F5-54F3-47E6-92A7-1741A316D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BE0DB-11AC-4AEB-BE37-A943288E0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66ECE-4935-4402-9479-501DEF353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E13ED-22D2-49A8-B3E0-498816343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68B28-7EB0-45C4-AB1C-82A43BA2F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34CAF-20E4-4BF9-8E59-12EA21A73AD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D5781-A045-4FBA-B93B-757B7CFADFE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www.hsls.pitt.edu/phia/" TargetMode="External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mailto:folb@pitt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1532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  <a:ea typeface="Times New Roman"/>
              </a:rPr>
              <a:t>Evaluating and Addressing </a:t>
            </a:r>
            <a:br>
              <a:rPr sz="3600"/>
            </a:br>
            <a:r>
              <a:rPr b="0" lang="en-US" sz="3600" spc="-1" strike="noStrike">
                <a:solidFill>
                  <a:srgbClr val="ccecff"/>
                </a:solidFill>
                <a:latin typeface="Arial"/>
                <a:ea typeface="Times New Roman"/>
              </a:rPr>
              <a:t>the Information Needs </a:t>
            </a:r>
            <a:br>
              <a:rPr sz="3600"/>
            </a:br>
            <a:r>
              <a:rPr b="0" lang="en-US" sz="3600" spc="-1" strike="noStrike">
                <a:solidFill>
                  <a:srgbClr val="ccecff"/>
                </a:solidFill>
                <a:latin typeface="Arial"/>
                <a:ea typeface="Times New Roman"/>
              </a:rPr>
              <a:t>of an Urban Public Health Department </a:t>
            </a:r>
            <a:br>
              <a:rPr sz="3600"/>
            </a:br>
            <a:r>
              <a:rPr b="0" lang="en-US" sz="3600" spc="-1" strike="noStrike">
                <a:solidFill>
                  <a:srgbClr val="ccecff"/>
                </a:solidFill>
                <a:latin typeface="Arial"/>
                <a:ea typeface="Times New Roman"/>
              </a:rPr>
              <a:t>Through an </a:t>
            </a:r>
            <a:br>
              <a:rPr sz="3600"/>
            </a:br>
            <a:r>
              <a:rPr b="0" lang="en-US" sz="3600" spc="-1" strike="noStrike">
                <a:solidFill>
                  <a:srgbClr val="ccecff"/>
                </a:solidFill>
                <a:latin typeface="Arial"/>
                <a:ea typeface="Times New Roman"/>
              </a:rPr>
              <a:t>Academic Health Sciences Library Health Department Partnership</a:t>
            </a: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528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senter:  Barbara Folb, MLS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alth Sciences Library System, University of Pittsburg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6" name=""/>
          <p:cNvGraphicFramePr/>
          <p:nvPr/>
        </p:nvGraphicFramePr>
        <p:xfrm>
          <a:off x="0" y="235080"/>
          <a:ext cx="8674200" cy="4924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35080"/>
                    <a:ext cx="8674200" cy="492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8" name=""/>
          <p:cNvSpPr/>
          <p:nvPr/>
        </p:nvSpPr>
        <p:spPr>
          <a:xfrm>
            <a:off x="4876920" y="5181480"/>
            <a:ext cx="3809880" cy="132624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Us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17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derate use (1-10)     6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gher use (11- )          6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9" name=""/>
          <p:cNvGraphicFramePr/>
          <p:nvPr/>
        </p:nvGraphicFramePr>
        <p:xfrm>
          <a:off x="260280" y="149400"/>
          <a:ext cx="6286680" cy="6553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0280" y="149400"/>
                    <a:ext cx="6286680" cy="655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41" name=""/>
          <p:cNvGrpSpPr/>
          <p:nvPr/>
        </p:nvGrpSpPr>
        <p:grpSpPr>
          <a:xfrm>
            <a:off x="6781680" y="914400"/>
            <a:ext cx="2362320" cy="1572120"/>
            <a:chOff x="6781680" y="914400"/>
            <a:chExt cx="2362320" cy="1572120"/>
          </a:xfrm>
        </p:grpSpPr>
        <p:sp>
          <p:nvSpPr>
            <p:cNvPr id="242" name=""/>
            <p:cNvSpPr/>
            <p:nvPr/>
          </p:nvSpPr>
          <p:spPr>
            <a:xfrm>
              <a:off x="6781680" y="914400"/>
              <a:ext cx="2362320" cy="157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   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=Majo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     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divis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   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=Subdivis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43" name=""/>
            <p:cNvGrpSpPr/>
            <p:nvPr/>
          </p:nvGrpSpPr>
          <p:grpSpPr>
            <a:xfrm>
              <a:off x="6781680" y="914400"/>
              <a:ext cx="492120" cy="1552680"/>
              <a:chOff x="6781680" y="914400"/>
              <a:chExt cx="492120" cy="1552680"/>
            </a:xfrm>
          </p:grpSpPr>
          <p:sp>
            <p:nvSpPr>
              <p:cNvPr id="244" name=""/>
              <p:cNvSpPr/>
              <p:nvPr/>
            </p:nvSpPr>
            <p:spPr>
              <a:xfrm>
                <a:off x="6781680" y="914400"/>
                <a:ext cx="457200" cy="38088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6816600" y="2085840"/>
                <a:ext cx="457200" cy="38124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1875960"/>
            <a:ext cx="7772400" cy="13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Survey Result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fidence in Internet ski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8" name=""/>
          <p:cNvGraphicFramePr/>
          <p:nvPr/>
        </p:nvGraphicFramePr>
        <p:xfrm>
          <a:off x="228600" y="0"/>
          <a:ext cx="7391520" cy="5867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0"/>
                    <a:ext cx="7391520" cy="58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0" name=""/>
          <p:cNvSpPr/>
          <p:nvPr/>
        </p:nvSpPr>
        <p:spPr>
          <a:xfrm>
            <a:off x="6019920" y="5181480"/>
            <a:ext cx="2666880" cy="132624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w confidence        1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derate confidence 4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gh confidence        8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1875960"/>
            <a:ext cx="7772400" cy="13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Survey Result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b Sites Us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eb Sites Used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6840" y="3192120"/>
            <a:ext cx="4033800" cy="29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aviest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hone boo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ed/State agenc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gulat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52640" y="3276360"/>
            <a:ext cx="4033800" cy="28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ghter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ubM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xn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DC Wond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85800" y="152388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847880" y="1981080"/>
            <a:ext cx="54482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arge number of web sites us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mall number of users per web si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8" name=""/>
          <p:cNvGraphicFramePr/>
          <p:nvPr/>
        </p:nvGraphicFramePr>
        <p:xfrm>
          <a:off x="228600" y="166680"/>
          <a:ext cx="5638680" cy="5943600"/>
        </p:xfrm>
        <a:graphic>
          <a:graphicData uri="http://schemas.openxmlformats.org/drawingml/2006/table">
            <a:tbl>
              <a:tblPr/>
              <a:tblGrid>
                <a:gridCol w="3382920"/>
                <a:gridCol w="2255760"/>
              </a:tblGrid>
              <a:tr h="61452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ites used more than 1/day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5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ITE</a:t>
                      </a: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ESPONS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th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DC not CDC Wond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63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P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63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deral Regist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6350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hone Directori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6368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F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463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Health Dep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65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ittCa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D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259" name=""/>
          <p:cNvSpPr/>
          <p:nvPr/>
        </p:nvSpPr>
        <p:spPr>
          <a:xfrm>
            <a:off x="6095880" y="876240"/>
            <a:ext cx="2819520" cy="3240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Oth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Gov Agenc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Regul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Literatu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Phone B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Data Sour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272280" y="1438200"/>
            <a:ext cx="411120" cy="35244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272280" y="2038320"/>
            <a:ext cx="411120" cy="352440"/>
          </a:xfrm>
          <a:prstGeom prst="rect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272280" y="2597040"/>
            <a:ext cx="411120" cy="35244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272280" y="3138480"/>
            <a:ext cx="411120" cy="352440"/>
          </a:xfrm>
          <a:prstGeom prst="rect">
            <a:avLst/>
          </a:prstGeom>
          <a:solidFill>
            <a:srgbClr val="ff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272280" y="933480"/>
            <a:ext cx="411120" cy="352440"/>
          </a:xfrm>
          <a:prstGeom prst="rect">
            <a:avLst/>
          </a:prstGeom>
          <a:solidFill>
            <a:srgbClr val="cc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272280" y="3643200"/>
            <a:ext cx="411120" cy="352440"/>
          </a:xfrm>
          <a:prstGeom prst="rect">
            <a:avLst/>
          </a:prstGeom>
          <a:solidFill>
            <a:srgbClr val="ff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6" name=""/>
          <p:cNvGraphicFramePr/>
          <p:nvPr/>
        </p:nvGraphicFramePr>
        <p:xfrm>
          <a:off x="2496960" y="252360"/>
          <a:ext cx="6494760" cy="6386400"/>
        </p:xfrm>
        <a:graphic>
          <a:graphicData uri="http://schemas.openxmlformats.org/drawingml/2006/table">
            <a:tbl>
              <a:tblPr/>
              <a:tblGrid>
                <a:gridCol w="4832640"/>
                <a:gridCol w="1662120"/>
              </a:tblGrid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Health Dep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th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hone Directori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P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DC not CDC Wond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deral Regist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Bulleti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Cod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F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403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State Data Cent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ubMe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D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xne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 Censu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DC Wond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ittCa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</a:tbl>
          </a:graphicData>
        </a:graphic>
      </p:graphicFrame>
      <p:sp>
        <p:nvSpPr>
          <p:cNvPr id="267" name=""/>
          <p:cNvSpPr/>
          <p:nvPr/>
        </p:nvSpPr>
        <p:spPr>
          <a:xfrm>
            <a:off x="209520" y="766800"/>
            <a:ext cx="226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ites used 6-25/mon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76320" y="2273400"/>
            <a:ext cx="2354040" cy="3241800"/>
            <a:chOff x="76320" y="2273400"/>
            <a:chExt cx="2354040" cy="3241800"/>
          </a:xfrm>
        </p:grpSpPr>
        <p:sp>
          <p:nvSpPr>
            <p:cNvPr id="269" name=""/>
            <p:cNvSpPr/>
            <p:nvPr/>
          </p:nvSpPr>
          <p:spPr>
            <a:xfrm>
              <a:off x="76320" y="2273400"/>
              <a:ext cx="2354040" cy="32418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=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Othe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Gov Agency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Regul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Literatur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Phone Bk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Data Sourc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65040" y="2795760"/>
              <a:ext cx="311400" cy="2952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65040" y="3243240"/>
              <a:ext cx="311400" cy="293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65040" y="3784680"/>
              <a:ext cx="311400" cy="29520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65040" y="4238640"/>
              <a:ext cx="311400" cy="29520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65040" y="2295360"/>
              <a:ext cx="311400" cy="29556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65040" y="4662360"/>
              <a:ext cx="311400" cy="29556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6" name=""/>
          <p:cNvGraphicFramePr/>
          <p:nvPr/>
        </p:nvGraphicFramePr>
        <p:xfrm>
          <a:off x="3048120" y="142920"/>
          <a:ext cx="5486400" cy="6324480"/>
        </p:xfrm>
        <a:graphic>
          <a:graphicData uri="http://schemas.openxmlformats.org/drawingml/2006/table">
            <a:tbl>
              <a:tblPr/>
              <a:tblGrid>
                <a:gridCol w="4313160"/>
                <a:gridCol w="1173240"/>
              </a:tblGrid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hone Directori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Health Dep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Bulleti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DC not CDC Wond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P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deral Regist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Cod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D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State Data Cent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xne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ubMe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 Censu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DC Wond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F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ittCa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th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</a:tbl>
          </a:graphicData>
        </a:graphic>
      </p:graphicFrame>
      <p:sp>
        <p:nvSpPr>
          <p:cNvPr id="277" name=""/>
          <p:cNvSpPr/>
          <p:nvPr/>
        </p:nvSpPr>
        <p:spPr>
          <a:xfrm>
            <a:off x="457200" y="122220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ites used 1-5/mon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76320" y="2273400"/>
            <a:ext cx="2354040" cy="3241800"/>
            <a:chOff x="76320" y="2273400"/>
            <a:chExt cx="2354040" cy="3241800"/>
          </a:xfrm>
        </p:grpSpPr>
        <p:sp>
          <p:nvSpPr>
            <p:cNvPr id="279" name=""/>
            <p:cNvSpPr/>
            <p:nvPr/>
          </p:nvSpPr>
          <p:spPr>
            <a:xfrm>
              <a:off x="76320" y="2273400"/>
              <a:ext cx="2354040" cy="32418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=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Othe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Gov Agency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Regul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Literatur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Phone Bk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Data Sourc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65040" y="2795760"/>
              <a:ext cx="311400" cy="2952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65040" y="3243240"/>
              <a:ext cx="311400" cy="293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65040" y="3784680"/>
              <a:ext cx="311400" cy="29520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65040" y="4238640"/>
              <a:ext cx="311400" cy="29520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365040" y="2295360"/>
              <a:ext cx="311400" cy="29556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65040" y="4662360"/>
              <a:ext cx="311400" cy="29556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6" name=""/>
          <p:cNvGraphicFramePr/>
          <p:nvPr/>
        </p:nvGraphicFramePr>
        <p:xfrm>
          <a:off x="3581280" y="176040"/>
          <a:ext cx="5257800" cy="6600960"/>
        </p:xfrm>
        <a:graphic>
          <a:graphicData uri="http://schemas.openxmlformats.org/drawingml/2006/table">
            <a:tbl>
              <a:tblPr/>
              <a:tblGrid>
                <a:gridCol w="4118040"/>
                <a:gridCol w="1139760"/>
              </a:tblGrid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DC Wond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 Censu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443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ittCa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441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F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443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xne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443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ubMe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D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State Data Cent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Cod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deral Regist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Bulleti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P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43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DC not CDC Wond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hone Directori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Health Dep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th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</a:tbl>
          </a:graphicData>
        </a:graphic>
      </p:graphicFrame>
      <p:sp>
        <p:nvSpPr>
          <p:cNvPr id="287" name=""/>
          <p:cNvSpPr/>
          <p:nvPr/>
        </p:nvSpPr>
        <p:spPr>
          <a:xfrm>
            <a:off x="685800" y="1158840"/>
            <a:ext cx="213372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ites Used 0/mon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520560" y="2784600"/>
            <a:ext cx="2354040" cy="3241800"/>
            <a:chOff x="520560" y="2784600"/>
            <a:chExt cx="2354040" cy="3241800"/>
          </a:xfrm>
        </p:grpSpPr>
        <p:sp>
          <p:nvSpPr>
            <p:cNvPr id="289" name=""/>
            <p:cNvSpPr/>
            <p:nvPr/>
          </p:nvSpPr>
          <p:spPr>
            <a:xfrm>
              <a:off x="520560" y="2784600"/>
              <a:ext cx="2354040" cy="32418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=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Othe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Gov Agency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Regul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Literatur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Phone Bk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Data Sourc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09280" y="3306960"/>
              <a:ext cx="311400" cy="2952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809280" y="3754440"/>
              <a:ext cx="311400" cy="293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809280" y="4295880"/>
              <a:ext cx="311400" cy="29520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809280" y="4749840"/>
              <a:ext cx="311400" cy="29520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809280" y="2806560"/>
              <a:ext cx="311400" cy="29556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809280" y="5173560"/>
              <a:ext cx="311400" cy="29556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ACHD Information Environment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2002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persed offi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ading Room in one lo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bout 20 print journal subscrip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pies on reque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net ac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ull library privileges for ACHD/GSPH adjunct faculty (15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6" name=""/>
          <p:cNvGraphicFramePr/>
          <p:nvPr/>
        </p:nvGraphicFramePr>
        <p:xfrm>
          <a:off x="3733920" y="103320"/>
          <a:ext cx="5029200" cy="6324480"/>
        </p:xfrm>
        <a:graphic>
          <a:graphicData uri="http://schemas.openxmlformats.org/drawingml/2006/table">
            <a:tbl>
              <a:tblPr/>
              <a:tblGrid>
                <a:gridCol w="3639960"/>
                <a:gridCol w="1389240"/>
              </a:tblGrid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Health Dep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hone Directori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DC not CDC Wond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P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th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deral Regist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Bulleti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D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Cod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State Data Cent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xne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ubMe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 Censu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DC Wond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F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ittCa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</a:tbl>
          </a:graphicData>
        </a:graphic>
      </p:graphicFrame>
      <p:sp>
        <p:nvSpPr>
          <p:cNvPr id="297" name=""/>
          <p:cNvSpPr/>
          <p:nvPr/>
        </p:nvSpPr>
        <p:spPr>
          <a:xfrm>
            <a:off x="685800" y="1596960"/>
            <a:ext cx="25146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otal, Any U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520560" y="2784600"/>
            <a:ext cx="2354040" cy="3241800"/>
            <a:chOff x="520560" y="2784600"/>
            <a:chExt cx="2354040" cy="3241800"/>
          </a:xfrm>
        </p:grpSpPr>
        <p:sp>
          <p:nvSpPr>
            <p:cNvPr id="299" name=""/>
            <p:cNvSpPr/>
            <p:nvPr/>
          </p:nvSpPr>
          <p:spPr>
            <a:xfrm>
              <a:off x="520560" y="2784600"/>
              <a:ext cx="2354040" cy="32418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=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Othe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Gov Agency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Regul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Literatur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Phone Bk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Data Sourc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809280" y="3306960"/>
              <a:ext cx="311400" cy="2952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809280" y="3754440"/>
              <a:ext cx="311400" cy="293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809280" y="4295880"/>
              <a:ext cx="311400" cy="29520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809280" y="4749840"/>
              <a:ext cx="311400" cy="29520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809280" y="2806560"/>
              <a:ext cx="311400" cy="29556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809280" y="5173560"/>
              <a:ext cx="311400" cy="29556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Search Skill Self Rating: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Selected web site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307" name=""/>
          <p:cNvGraphicFramePr/>
          <p:nvPr/>
        </p:nvGraphicFramePr>
        <p:xfrm>
          <a:off x="457200" y="1676520"/>
          <a:ext cx="8229600" cy="4206600"/>
        </p:xfrm>
        <a:graphic>
          <a:graphicData uri="http://schemas.openxmlformats.org/drawingml/2006/table">
            <a:tbl>
              <a:tblPr/>
              <a:tblGrid>
                <a:gridCol w="1523880"/>
                <a:gridCol w="838440"/>
                <a:gridCol w="990360"/>
                <a:gridCol w="1386000"/>
                <a:gridCol w="1103400"/>
                <a:gridCol w="1168200"/>
                <a:gridCol w="1219320"/>
              </a:tblGrid>
              <a:tr h="1008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er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igh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igh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odera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ome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ha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w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er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w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ev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ed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DC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Wonder (18)*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9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ubmed (24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08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ittcat (14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90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oxnet (24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8" name=""/>
          <p:cNvSpPr/>
          <p:nvPr/>
        </p:nvSpPr>
        <p:spPr>
          <a:xfrm>
            <a:off x="1066680" y="640080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447920" y="609588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*Total who used the site, any amount/mon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1875960"/>
            <a:ext cx="7772400" cy="13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Survey Result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rriers to Inform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Internet Content Couldn’t Find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313" name=""/>
          <p:cNvGraphicFramePr/>
          <p:nvPr/>
        </p:nvGraphicFramePr>
        <p:xfrm>
          <a:off x="685800" y="1752480"/>
          <a:ext cx="7772400" cy="3684600"/>
        </p:xfrm>
        <a:graphic>
          <a:graphicData uri="http://schemas.openxmlformats.org/drawingml/2006/table">
            <a:tbl>
              <a:tblPr/>
              <a:tblGrid>
                <a:gridCol w="216000"/>
                <a:gridCol w="1651680"/>
                <a:gridCol w="2865600"/>
                <a:gridCol w="2794320"/>
                <a:gridCol w="244800"/>
              </a:tblGrid>
              <a:tr h="11912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s there information you wish to access via the Internet that you have not been able to locate or use?  n=13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umb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ercen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883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9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890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ummary, What They Couldn’t Find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tal who gave text answers: 27 out of 2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ecific needs PHIA can’t address: 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eds PHIA can address: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ournal articles (6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ining (5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chnical chem/engineering info (4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tistics 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rectory info 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gulatory info 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umer Health 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boratory 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6" name=""/>
          <p:cNvGraphicFramePr/>
          <p:nvPr/>
        </p:nvGraphicFramePr>
        <p:xfrm>
          <a:off x="457200" y="762120"/>
          <a:ext cx="8381880" cy="5533920"/>
        </p:xfrm>
        <a:graphic>
          <a:graphicData uri="http://schemas.openxmlformats.org/drawingml/2006/table">
            <a:tbl>
              <a:tblPr/>
              <a:tblGrid>
                <a:gridCol w="264960"/>
                <a:gridCol w="1721160"/>
                <a:gridCol w="3103560"/>
                <a:gridCol w="3027240"/>
                <a:gridCol w="264960"/>
              </a:tblGrid>
              <a:tr h="222696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hinking back on the past work week, were there any times when you needed information (in any format) to accomplish a job-related task, but were unable to obtain the information? n=1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030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umb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ercen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1030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6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00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7" name=""/>
          <p:cNvGraphicFramePr/>
          <p:nvPr/>
        </p:nvGraphicFramePr>
        <p:xfrm>
          <a:off x="304920" y="304920"/>
          <a:ext cx="8613720" cy="6659280"/>
        </p:xfrm>
        <a:graphic>
          <a:graphicData uri="http://schemas.openxmlformats.org/drawingml/2006/table">
            <a:tbl>
              <a:tblPr/>
              <a:tblGrid>
                <a:gridCol w="1590840"/>
                <a:gridCol w="3342600"/>
                <a:gridCol w="1442520"/>
                <a:gridCol w="2022480"/>
                <a:gridCol w="216000"/>
              </a:tblGrid>
              <a:tr h="13291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hat barriers did you encounter to obtaining the information? Please check all that apply.</a:t>
                      </a:r>
                      <a:br>
                        <a:rPr sz="2400"/>
                      </a:br>
                      <a:br>
                        <a:rPr sz="1000"/>
                      </a:b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=1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umb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ercent(x/18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 was unable to locate a source for the information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 was able to locate a source, but not able to obtain the source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3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 did not have time to complete the task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he source was too expensive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35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ther problems. Please list below.*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407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 was not sure of where to look. (1) 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  Inexperienced in where and how to locate programs offering data (1) 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  Information was too generic/ consumer oriented (1) </a:t>
                      </a:r>
                      <a:br>
                        <a:rPr sz="2000"/>
                      </a:b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1875960"/>
            <a:ext cx="7772400" cy="13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Survey Result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ining Preferen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Electronic Tutorial Interes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321" name=""/>
          <p:cNvGraphicFramePr/>
          <p:nvPr/>
        </p:nvGraphicFramePr>
        <p:xfrm>
          <a:off x="685800" y="1981080"/>
          <a:ext cx="7772400" cy="4172040"/>
        </p:xfrm>
        <a:graphic>
          <a:graphicData uri="http://schemas.openxmlformats.org/drawingml/2006/table">
            <a:tbl>
              <a:tblPr/>
              <a:tblGrid>
                <a:gridCol w="4541760"/>
                <a:gridCol w="1614600"/>
                <a:gridCol w="161604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=1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umb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ercen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9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s a refresher after attending a live clas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5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9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s a substitute to attending a live clas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7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t at al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8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urvey Conclusion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ed for training demonstrat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 all employees are highly skilled and  confident using the Intern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uable  resources underutiliz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cess to librarian and library collections needed to overcome information barriers 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ck of time to search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 knowing where to loo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ck of money for fee based inform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SLS  2002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rves U of Pittsburgh and UPM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ff – 25 professional librarians, 36 support and technical staff, plus student assista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llection – app. 200,000 books, 2,600 journal subscriptions, 2,000 Audiovisuals, 1,700 educational software progr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68 (99%) of core PH journa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69 PH specialty journal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ddressing Training Need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nds on classes– 7 top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ubMed - Internet I  &amp; II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tistical Resources -Evidence Based Public Health – Consumer Health – Grant Funding Resour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mail – Tuesday Info Tip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ort Internet search tips, sent week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purpose: increase program visi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37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ddressing Information Barrier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181160"/>
            <a:ext cx="7772400" cy="49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ference Servic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0 search requests/year, 30 other que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ournal article delive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10 requ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ook borrow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derate use, stats not retriev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IA web sit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ff99"/>
                </a:solidFill>
                <a:uFillTx/>
                <a:latin typeface="Arial"/>
                <a:hlinkClick r:id="rId1"/>
              </a:rPr>
              <a:t>http://www.hsls.pitt.edu/phia/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homepage" descr=""/>
          <p:cNvPicPr/>
          <p:nvPr/>
        </p:nvPicPr>
        <p:blipFill>
          <a:blip r:embed="rId1"/>
          <a:stretch/>
        </p:blipFill>
        <p:spPr>
          <a:xfrm>
            <a:off x="866880" y="152280"/>
            <a:ext cx="7410240" cy="65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Links%20Page" descr=""/>
          <p:cNvPicPr/>
          <p:nvPr/>
        </p:nvPicPr>
        <p:blipFill>
          <a:blip r:embed="rId1"/>
          <a:stretch/>
        </p:blipFill>
        <p:spPr>
          <a:xfrm>
            <a:off x="866880" y="-9360"/>
            <a:ext cx="7410240" cy="68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Injury%20Prevention" descr=""/>
          <p:cNvPicPr/>
          <p:nvPr/>
        </p:nvPicPr>
        <p:blipFill>
          <a:blip r:embed="rId1"/>
          <a:stretch/>
        </p:blipFill>
        <p:spPr>
          <a:xfrm>
            <a:off x="990720" y="285840"/>
            <a:ext cx="7086600" cy="61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HIA Continuation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early contract for document delivery coverag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brarian funded through the  Center for Public Health Practice, GSPH, University of Pittsburg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Ongoing Goals of PHI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vide enhanced library services to ACH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aluate the academic/practitioner partnership model for library services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seminate findings to other health departments and librar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cknowledgement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project has been funded with Federal funds from the National Library of Medicine, National Institutes of Health, under Contract No. N01-LM-3521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uthors:  Barbara Folb, MLS,  Barbara Epstein, MS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further information contact Barbara Folb, </a:t>
            </a:r>
            <a:r>
              <a:rPr b="0" lang="en-US" sz="3200" spc="-1" strike="noStrike" u="sng">
                <a:solidFill>
                  <a:srgbClr val="99ff99"/>
                </a:solidFill>
                <a:uFillTx/>
                <a:latin typeface="Arial"/>
                <a:hlinkClick r:id="rId1"/>
              </a:rPr>
              <a:t>folb@pitt.edu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HIA Steering Committe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H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ice Kindling, Training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d Schwartz, Policy Development and Assess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S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rbara Epstein, Direc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ncy Tannery, Associate Director for Information Servi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rbara Folb, Public Health Librar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Successful Program Characteristic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sy to u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ime eff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st eff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s name recognition at ACH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creases potential access to inform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creases use of inform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Grant Funding Alloca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LM 18 month grant, March 1, 2003- August 31, 200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brarian/Project Manager 2 days/wee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ference, training, web site develop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otocopy service support (journal articles, book chapter copie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Initial PHIA Surve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urpose –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ining develop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b site develop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uly/August 20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ltiple publicity rou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b bas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41 responses  from a possible 350 (app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urvey Topic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net u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fidence in Internet ski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timated use of specific web resources and search engi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rriers to information ac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ining preferen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Survey Result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ternet Us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6T19:33:21Z</dcterms:created>
  <dc:creator>techuser</dc:creator>
  <dc:description/>
  <dc:language>en-US</dc:language>
  <cp:lastModifiedBy>techuser</cp:lastModifiedBy>
  <dcterms:modified xsi:type="dcterms:W3CDTF">2004-11-04T20:31:50Z</dcterms:modified>
  <cp:revision>18</cp:revision>
  <dc:subject/>
  <dc:title>PowerPoint Presentation</dc:title>
</cp:coreProperties>
</file>