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0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media/image2.jpeg" ContentType="image/jpeg"/>
  <Override PartName="/ppt/media/image6.wmf" ContentType="image/x-wmf"/>
  <Override PartName="/ppt/media/image3.png" ContentType="image/png"/>
  <Override PartName="/ppt/media/image11.wmf" ContentType="image/x-wmf"/>
  <Override PartName="/ppt/embeddings/oleObject1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7019925" cy="93059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7020000" cy="930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body"/>
          </p:nvPr>
        </p:nvSpPr>
        <p:spPr>
          <a:xfrm>
            <a:off x="783720" y="4768560"/>
            <a:ext cx="5480280" cy="39272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ldImg"/>
          </p:nvPr>
        </p:nvSpPr>
        <p:spPr>
          <a:xfrm>
            <a:off x="861840" y="441000"/>
            <a:ext cx="5275440" cy="395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2024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40014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82320" y="8871120"/>
            <a:ext cx="8784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0F25D3E-6B3C-4524-8C22-31F12AA25D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861840" y="441360"/>
            <a:ext cx="5275440" cy="39560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783720" y="4768560"/>
            <a:ext cx="5480280" cy="39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558760" y="4403880"/>
            <a:ext cx="69840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1400" bIns="41400" anchor="t">
            <a:spAutoFit/>
          </a:bodyPr>
          <a:p>
            <a:pPr algn="r">
              <a:lnSpc>
                <a:spcPct val="95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XXX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861840" y="441360"/>
            <a:ext cx="5275440" cy="39560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82280" y="4768560"/>
            <a:ext cx="5481720" cy="39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558760" y="4403880"/>
            <a:ext cx="69840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1400" bIns="41400" anchor="t">
            <a:spAutoFit/>
          </a:bodyPr>
          <a:p>
            <a:pPr algn="r">
              <a:lnSpc>
                <a:spcPct val="95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XXX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861840" y="441360"/>
            <a:ext cx="5275440" cy="39560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82280" y="4768560"/>
            <a:ext cx="5481720" cy="39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558760" y="4403880"/>
            <a:ext cx="69840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1400" bIns="41400" anchor="t">
            <a:spAutoFit/>
          </a:bodyPr>
          <a:p>
            <a:pPr algn="r">
              <a:lnSpc>
                <a:spcPct val="95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XXX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861840" y="441360"/>
            <a:ext cx="5275440" cy="39560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82280" y="4768560"/>
            <a:ext cx="5481720" cy="39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58760" y="4403880"/>
            <a:ext cx="69840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1400" bIns="41400" anchor="t">
            <a:spAutoFit/>
          </a:bodyPr>
          <a:p>
            <a:pPr algn="r">
              <a:lnSpc>
                <a:spcPct val="95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XXX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861840" y="441360"/>
            <a:ext cx="5275440" cy="39560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782280" y="4768560"/>
            <a:ext cx="5481720" cy="39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558760" y="4403880"/>
            <a:ext cx="69840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1400" bIns="41400" anchor="t">
            <a:spAutoFit/>
          </a:bodyPr>
          <a:p>
            <a:pPr algn="r">
              <a:lnSpc>
                <a:spcPct val="95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XXX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753300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206000" y="4099680"/>
            <a:ext cx="753300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628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06000" y="409968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6280" y="409968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53000" y="151416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00000" y="151416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206000" y="409968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53000" y="409968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00000" y="409968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206000" y="1514160"/>
            <a:ext cx="75330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76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40014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75330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367596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66280" y="1514160"/>
            <a:ext cx="367596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523880" y="0"/>
            <a:ext cx="508320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76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40014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66280" y="1514160"/>
            <a:ext cx="367596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206000" y="409968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206000" y="1514160"/>
            <a:ext cx="75330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76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367596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6628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66280" y="409968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6628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206000" y="4099680"/>
            <a:ext cx="753300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753300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206000" y="4099680"/>
            <a:ext cx="753300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6628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206000" y="409968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66280" y="409968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753000" y="151416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300000" y="151416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206000" y="409968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753000" y="409968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300000" y="409968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75330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367596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6280" y="1514160"/>
            <a:ext cx="367596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23880" y="0"/>
            <a:ext cx="508320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76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6280" y="1514160"/>
            <a:ext cx="367596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206000" y="409968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367596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628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6280" y="409968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628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206000" y="4099680"/>
            <a:ext cx="753300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06000" y="1514160"/>
            <a:ext cx="75330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a4001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a4001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04920" indent="-35244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a400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57360" indent="-23832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43200" indent="-17172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0023a0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43200" indent="-17172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000000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43200" indent="-17172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000000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40014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89000" y="1165320"/>
            <a:ext cx="636480" cy="532584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158760" y="141120"/>
            <a:ext cx="1255680" cy="104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779040" y="6416640"/>
            <a:ext cx="70614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007 CPAC Straw Poll Results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rch 1-3, 20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505000" y="6607800"/>
            <a:ext cx="91476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2840" bIns="42840" anchor="b">
            <a:spAutoFit/>
          </a:bodyPr>
          <a:p>
            <a:pPr algn="r">
              <a:lnSpc>
                <a:spcPct val="90000"/>
              </a:lnSpc>
              <a:spcBef>
                <a:spcPts val="675"/>
              </a:spcBef>
              <a:spcAft>
                <a:spcPts val="451"/>
              </a:spcAft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fld id="{E1B4DBA6-A670-4329-AC14-65713D3B23CE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" name=""/>
          <p:cNvGraphicFramePr/>
          <p:nvPr/>
        </p:nvGraphicFramePr>
        <p:xfrm>
          <a:off x="7485120" y="181080"/>
          <a:ext cx="1380960" cy="1125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485120" y="181080"/>
                    <a:ext cx="1380960" cy="112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99880" y="254160"/>
            <a:ext cx="744840" cy="629280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486640" y="6410160"/>
            <a:ext cx="641880" cy="1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2840" bIns="42840" anchor="b">
            <a:spAutoFit/>
          </a:bodyPr>
          <a:p>
            <a:pPr algn="r">
              <a:lnSpc>
                <a:spcPct val="90000"/>
              </a:lnSpc>
              <a:spcBef>
                <a:spcPts val="451"/>
              </a:spcBef>
              <a:spcAft>
                <a:spcPts val="300"/>
              </a:spcAft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fld id="{EC4BA15B-0F44-45E9-8D1B-516F160D9CEA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1330200" y="173160"/>
            <a:ext cx="2435400" cy="20113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102200" y="888480"/>
            <a:ext cx="4927680" cy="1033560"/>
          </a:xfrm>
          <a:prstGeom prst="rect">
            <a:avLst/>
          </a:prstGeom>
          <a:noFill/>
          <a:ln w="0">
            <a:noFill/>
          </a:ln>
        </p:spPr>
        <p:txBody>
          <a:bodyPr lIns="0" rIns="92160" tIns="0" bIns="46080" anchor="t">
            <a:noAutofit/>
          </a:bodyPr>
          <a:p>
            <a:pPr indent="0">
              <a:lnSpc>
                <a:spcPct val="90000"/>
              </a:lnSpc>
              <a:spcBef>
                <a:spcPts val="2024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40014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363680" y="3019320"/>
          <a:ext cx="7418520" cy="819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363680" y="3019320"/>
                    <a:ext cx="7418520" cy="81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76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40014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a40014"/>
              </a:solidFill>
              <a:latin typeface="Arial"/>
            </a:endParaRPr>
          </a:p>
          <a:p>
            <a:pPr lvl="1" marL="399960" indent="0" algn="ctr">
              <a:lnSpc>
                <a:spcPct val="9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95240" indent="57240" algn="ctr">
              <a:lnSpc>
                <a:spcPct val="92000"/>
              </a:lnSpc>
              <a:spcAft>
                <a:spcPts val="901"/>
              </a:spcAft>
              <a:buClr>
                <a:srgbClr val="a40014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081080" indent="237960" algn="ctr">
              <a:lnSpc>
                <a:spcPct val="90000"/>
              </a:lnSpc>
              <a:spcAft>
                <a:spcPts val="901"/>
              </a:spcAft>
              <a:buClr>
                <a:srgbClr val="000000"/>
              </a:buClr>
              <a:buFont typeface="Times New Roman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33520" indent="237960" algn="ctr">
              <a:lnSpc>
                <a:spcPct val="90000"/>
              </a:lnSpc>
              <a:spcAft>
                <a:spcPts val="901"/>
              </a:spcAft>
              <a:buClr>
                <a:srgbClr val="0023a0"/>
              </a:buClr>
              <a:buSzPct val="90000"/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3a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23a0"/>
              </a:solidFill>
              <a:latin typeface="Arial"/>
            </a:endParaRPr>
          </a:p>
          <a:p>
            <a:pPr lvl="5" marL="1433520" indent="237960"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3a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23a0"/>
              </a:solidFill>
              <a:latin typeface="Arial"/>
            </a:endParaRPr>
          </a:p>
          <a:p>
            <a:pPr lvl="6" marL="1433520" indent="237960"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3a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23a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1345680" y="4406760"/>
            <a:ext cx="7410600" cy="571680"/>
          </a:xfrm>
          <a:prstGeom prst="rect">
            <a:avLst/>
          </a:prstGeom>
          <a:noFill/>
          <a:ln w="0">
            <a:noFill/>
          </a:ln>
        </p:spPr>
        <p:txBody>
          <a:bodyPr lIns="0" rIns="92160" tIns="0" bIns="46080" anchor="t">
            <a:noAutofit/>
          </a:bodyPr>
          <a:p>
            <a:pPr algn="ctr">
              <a:lnSpc>
                <a:spcPct val="90000"/>
              </a:lnSpc>
              <a:spcBef>
                <a:spcPts val="1800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40014"/>
                </a:solidFill>
                <a:latin typeface="Baskerville Old Face"/>
              </a:rPr>
              <a:t>March 1-3, 2007</a:t>
            </a:r>
            <a:endParaRPr b="0" lang="en-US" sz="32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78080" y="4992840"/>
            <a:ext cx="744984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2160" tIns="0" bIns="46080" anchor="t">
            <a:sp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9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a40014"/>
                </a:solidFill>
                <a:latin typeface="Baskerville Old Face"/>
              </a:rPr>
              <a:t>N =  1,705 CPAC Registrant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3459240" y="759960"/>
            <a:ext cx="4927680" cy="1281240"/>
          </a:xfrm>
          <a:prstGeom prst="rect">
            <a:avLst/>
          </a:prstGeom>
          <a:noFill/>
          <a:ln w="0">
            <a:noFill/>
          </a:ln>
        </p:spPr>
        <p:txBody>
          <a:bodyPr lIns="0" rIns="92160" tIns="0" bIns="46080" anchor="t">
            <a:noAutofit/>
          </a:bodyPr>
          <a:p>
            <a:pPr indent="0" algn="ctr">
              <a:lnSpc>
                <a:spcPct val="90000"/>
              </a:lnSpc>
              <a:spcBef>
                <a:spcPts val="2526"/>
              </a:spcBef>
              <a:spcAft>
                <a:spcPts val="16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a40014"/>
                </a:solidFill>
                <a:latin typeface="Baskerville Old Face"/>
              </a:rPr>
              <a:t>CPAC Straw Poll Results</a:t>
            </a:r>
            <a:endParaRPr b="1" lang="en-US" sz="45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8694720" y="6313320"/>
            <a:ext cx="449280" cy="36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82760" y="151920"/>
            <a:ext cx="6097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From the following list – who would be your FIRST choice to be the Republican Nominee for President in 2008?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841320" y="2192400"/>
          <a:ext cx="8898120" cy="4119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1320" y="2192400"/>
                    <a:ext cx="8898120" cy="411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"/>
          <p:cNvSpPr/>
          <p:nvPr/>
        </p:nvSpPr>
        <p:spPr>
          <a:xfrm>
            <a:off x="5864760" y="6149880"/>
            <a:ext cx="312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**All others tested received 5% or l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698480" y="1292400"/>
            <a:ext cx="6342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MONG INDIVIDUAL FREEDOM AND REDUCE SIZE OF GOV’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82760" y="151920"/>
            <a:ext cx="6097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From the following list – who would be your FIRST choice to be the Republican Nominee for President in 2008?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841320" y="2192400"/>
          <a:ext cx="8898120" cy="4119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1320" y="2192400"/>
                    <a:ext cx="8898120" cy="411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"/>
          <p:cNvSpPr/>
          <p:nvPr/>
        </p:nvSpPr>
        <p:spPr>
          <a:xfrm>
            <a:off x="5864760" y="6149880"/>
            <a:ext cx="312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**All others tested received 5% or l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98480" y="1407960"/>
            <a:ext cx="634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MONG TRADITIONAL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82760" y="151920"/>
            <a:ext cx="6097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From the following list – who would be your FIRST choice to be the Republican Nominee for President in 2008?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841320" y="2192400"/>
          <a:ext cx="8898120" cy="4119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1320" y="2192400"/>
                    <a:ext cx="8898120" cy="411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5864760" y="6149880"/>
            <a:ext cx="312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**All others tested received 5% or l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22360" y="1407960"/>
            <a:ext cx="706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MONG SECURE AND GUARANTEE SAFET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96800" y="151920"/>
            <a:ext cx="609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Now from the same list – who would be your SECOND choice to be the Republican Nominee for President in 2008?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841320" y="1481040"/>
          <a:ext cx="8898120" cy="4830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1320" y="1481040"/>
                    <a:ext cx="8898120" cy="483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" name=""/>
          <p:cNvSpPr/>
          <p:nvPr/>
        </p:nvSpPr>
        <p:spPr>
          <a:xfrm>
            <a:off x="5776200" y="6149880"/>
            <a:ext cx="329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**All others tested received less than 5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82760" y="151920"/>
            <a:ext cx="6097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COMBO 1</a:t>
            </a:r>
            <a:r>
              <a:rPr b="1" lang="en-US" sz="2400" spc="-1" strike="noStrike" baseline="30000">
                <a:solidFill>
                  <a:srgbClr val="a40014"/>
                </a:solidFill>
                <a:latin typeface="Baskerville Old Face"/>
              </a:rPr>
              <a:t>st</a:t>
            </a: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 and 2</a:t>
            </a:r>
            <a:r>
              <a:rPr b="1" lang="en-US" sz="2400" spc="-1" strike="noStrike" baseline="30000">
                <a:solidFill>
                  <a:srgbClr val="a40014"/>
                </a:solidFill>
                <a:latin typeface="Baskerville Old Face"/>
              </a:rPr>
              <a:t>nd</a:t>
            </a: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 Choice – </a:t>
            </a:r>
            <a:br>
              <a:rPr sz="2400"/>
            </a:b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Republican Nominee for President in 2008?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841320" y="1481040"/>
          <a:ext cx="8898120" cy="4830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1320" y="1481040"/>
                    <a:ext cx="8898120" cy="483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"/>
          <p:cNvSpPr/>
          <p:nvPr/>
        </p:nvSpPr>
        <p:spPr>
          <a:xfrm>
            <a:off x="5864760" y="6149880"/>
            <a:ext cx="312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**All others tested received 5% or l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545160" y="5834160"/>
            <a:ext cx="243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0000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14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&amp; 2</a:t>
            </a:r>
            <a:r>
              <a:rPr b="1" lang="en-US" sz="14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Choice Combin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82760" y="151920"/>
            <a:ext cx="609768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COMBO 1</a:t>
            </a:r>
            <a:r>
              <a:rPr b="1" lang="en-US" sz="2400" spc="-1" strike="noStrike" baseline="30000">
                <a:solidFill>
                  <a:srgbClr val="a40014"/>
                </a:solidFill>
                <a:latin typeface="Baskerville Old Face"/>
              </a:rPr>
              <a:t>st</a:t>
            </a: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 and 2</a:t>
            </a:r>
            <a:r>
              <a:rPr b="1" lang="en-US" sz="2400" spc="-1" strike="noStrike" baseline="30000">
                <a:solidFill>
                  <a:srgbClr val="a40014"/>
                </a:solidFill>
                <a:latin typeface="Baskerville Old Face"/>
              </a:rPr>
              <a:t>nd</a:t>
            </a: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 Choice – </a:t>
            </a:r>
            <a:br>
              <a:rPr sz="2400"/>
            </a:b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Republican Nominee for President in 2000?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846000" y="1481040"/>
          <a:ext cx="8089920" cy="4745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6000" y="1481040"/>
                    <a:ext cx="8089920" cy="474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" name=""/>
          <p:cNvSpPr/>
          <p:nvPr/>
        </p:nvSpPr>
        <p:spPr>
          <a:xfrm>
            <a:off x="6545160" y="5834160"/>
            <a:ext cx="243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0000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14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&amp; 2</a:t>
            </a:r>
            <a:r>
              <a:rPr b="1" lang="en-US" sz="14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Choice Combin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235240" y="103032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ISTORICAL COMPARI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42520" y="252000"/>
            <a:ext cx="60087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 u="sng">
                <a:solidFill>
                  <a:srgbClr val="a40014"/>
                </a:solidFill>
                <a:uFillTx/>
                <a:latin typeface="Baskerville Old Face"/>
              </a:rPr>
              <a:t>Type of Registrant</a:t>
            </a:r>
            <a:endParaRPr b="1" lang="en-US" sz="35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104760" y="450720"/>
          <a:ext cx="9855360" cy="6647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760" y="450720"/>
                    <a:ext cx="9855360" cy="664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382760" y="151920"/>
            <a:ext cx="6097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 u="sng">
                <a:solidFill>
                  <a:srgbClr val="a40014"/>
                </a:solidFill>
                <a:uFillTx/>
                <a:latin typeface="Baskerville Old Face"/>
              </a:rPr>
              <a:t>Age</a:t>
            </a: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846000" y="1407960"/>
          <a:ext cx="8205840" cy="4746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6000" y="1407960"/>
                    <a:ext cx="8205840" cy="474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2520" y="252000"/>
            <a:ext cx="60087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 u="sng">
                <a:solidFill>
                  <a:srgbClr val="a40014"/>
                </a:solidFill>
                <a:uFillTx/>
                <a:latin typeface="Baskerville Old Face"/>
              </a:rPr>
              <a:t>Gender</a:t>
            </a:r>
            <a:endParaRPr b="1" lang="en-US" sz="35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-517680" y="162000"/>
          <a:ext cx="10623600" cy="6643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517680" y="162000"/>
                    <a:ext cx="10623600" cy="664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53248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40014"/>
                </a:solidFill>
                <a:latin typeface="Arial"/>
              </a:rPr>
              <a:t>Key Points About Straw Poll</a:t>
            </a: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75330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a4001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llots collected from Thursday morning through Friday afterno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a4001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registrants could vo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a4001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705 ballots represents the largest straw poll in CPAC his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a4001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resents a 36% increase in ballots from CPAC 2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a4001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9 States plus DC represented in the ballo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96800" y="252000"/>
            <a:ext cx="609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In your opinion, why did the Republicans suffer the losses they did in last November’s elections? Was it because of…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873000" y="1582560"/>
          <a:ext cx="8080560" cy="4745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73000" y="1582560"/>
                    <a:ext cx="8080560" cy="474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Do you favor or oppose sending an additional 20,000 troops to Iraq?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770200" y="2144880"/>
            <a:ext cx="333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trongly Fav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819520" y="2820960"/>
            <a:ext cx="317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mewhat Fav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1925640" y="1957320"/>
          <a:ext cx="6091200" cy="4064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25640" y="1957320"/>
                    <a:ext cx="609120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47480" y="137880"/>
            <a:ext cx="6141960" cy="129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Which of the following comes closest to your opinion regarding America's foreign policy?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1062000" y="1692360"/>
          <a:ext cx="8082000" cy="4546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62000" y="1692360"/>
                    <a:ext cx="8082000" cy="454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074600" y="1363680"/>
          <a:ext cx="9317160" cy="5180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74600" y="1363680"/>
                    <a:ext cx="9317160" cy="518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1704960" y="200160"/>
            <a:ext cx="541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How important is it for the next Republican nominee to focus on each of the following issu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47480" y="137880"/>
            <a:ext cx="6141960" cy="129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All things being equal, would you be MOST likely to support a Republican candidate for President who called themselves a…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090440" y="1692360"/>
          <a:ext cx="8082000" cy="4546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90440" y="1692360"/>
                    <a:ext cx="8082000" cy="454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2543040" y="2593800"/>
            <a:ext cx="3409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onald Reagan Republic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575080" y="4083120"/>
            <a:ext cx="3541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eorge W. Bush Republic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47480" y="137880"/>
            <a:ext cx="6141960" cy="129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Which ONE of the following comes closest to your core beliefs and ideology?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1089000" y="1436760"/>
          <a:ext cx="8128080" cy="5079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9000" y="1436760"/>
                    <a:ext cx="8128080" cy="507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82760" y="151920"/>
            <a:ext cx="6097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From the following list – who would be your FIRST choice to be the Republican Nominee for President in 2008?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841320" y="1481040"/>
          <a:ext cx="8898120" cy="4830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1320" y="1481040"/>
                    <a:ext cx="8898120" cy="483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"/>
          <p:cNvSpPr/>
          <p:nvPr/>
        </p:nvSpPr>
        <p:spPr>
          <a:xfrm>
            <a:off x="5864760" y="6149880"/>
            <a:ext cx="312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**All others tested received 5% or l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8-07T14:40:52Z</dcterms:created>
  <dc:creator> </dc:creator>
  <dc:description/>
  <cp:keywords/>
  <dc:language>en-US</dc:language>
  <cp:lastModifiedBy>davidl</cp:lastModifiedBy>
  <cp:lastPrinted>2000-03-26T19:33:06Z</cp:lastPrinted>
  <dcterms:modified xsi:type="dcterms:W3CDTF">2007-03-03T18:07:31Z</dcterms:modified>
  <cp:revision>532</cp:revision>
  <dc:subject/>
  <dc:title>Presentation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