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88651-3912-4FBB-B22E-05BEB9E6B8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purpose was to support the development of the PHIA program, practical not research orien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reated the questions, modified them based on feedback from the ACHD Training committee and the PHIA steering committ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pt it relatively short, aiming for 5-10 minutes to 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B78D-F784-4C4A-8D5B-DDC79302F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FB15-CF71-4811-8862-38B701665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D990-16A3-4E1B-BF95-DD0C9C6FC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B98C-EB6D-4F2B-93ED-262B740BE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0B88B-1598-490C-8E64-E58F75731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F90C2-6CBD-47D9-A3EA-7C5C1D939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665FE-AE40-422D-B6B8-AA697E998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DB95C-11BB-4E3F-B503-65E8361C9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17D72-9825-4C90-AEE9-179FF1212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8E269-5DFD-48FB-B231-9A3852A45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09E4A-1851-4242-9D88-73B28347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6ADD-BA84-486B-9284-534AD23BE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070B3-DF69-433F-BC65-CFCC018B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2DBAE-B8A0-4C7F-981F-35D54E3F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54085-BCB8-447E-B4B0-16967D41C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CD1ED-9008-49BF-A4D5-D1FAF6B88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7701D-A50F-42C0-9ADE-C9700249D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2B74-0E76-4872-A16F-AEFC5F3E3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07E0-5DB7-4493-AF27-151897ACB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EDF8-2AF1-4E95-949C-FE4777100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7E2E-9858-461B-9CE9-293309E39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A354-312D-4B50-914C-7CCF9D43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69D7-C084-4C3D-9BBE-82B0B9DF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55EF-ED84-4684-8F94-CBCD9C33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6964E-B675-4038-96FF-C39DFF10C3B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06CEF-439C-4FA0-A643-B83FB0180A7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hsls.pitt.edu/phia/" TargetMode="External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mailto:folb@pitt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Evaluating and Addressing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the Information Needs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of an Urban Public Health Department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Through an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Academic Health Sciences Library Health Department Partnership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52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er:  Barbara Folb, ML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 Sciences Library System, University of Pittsbur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0" y="235080"/>
          <a:ext cx="8674200" cy="492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5080"/>
                    <a:ext cx="867420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4876920" y="5181480"/>
            <a:ext cx="3809880" cy="1326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U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1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ate use (1-10)     6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use (11- )          6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260280" y="149400"/>
          <a:ext cx="6286680" cy="655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280" y="149400"/>
                    <a:ext cx="628668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1" name=""/>
          <p:cNvGrpSpPr/>
          <p:nvPr/>
        </p:nvGrpSpPr>
        <p:grpSpPr>
          <a:xfrm>
            <a:off x="6781680" y="914400"/>
            <a:ext cx="2362320" cy="1572120"/>
            <a:chOff x="6781680" y="914400"/>
            <a:chExt cx="2362320" cy="1572120"/>
          </a:xfrm>
        </p:grpSpPr>
        <p:sp>
          <p:nvSpPr>
            <p:cNvPr id="242" name=""/>
            <p:cNvSpPr/>
            <p:nvPr/>
          </p:nvSpPr>
          <p:spPr>
            <a:xfrm>
              <a:off x="6781680" y="914400"/>
              <a:ext cx="236232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Maj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ivi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Subdivi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6781680" y="914400"/>
              <a:ext cx="492120" cy="1552680"/>
              <a:chOff x="6781680" y="914400"/>
              <a:chExt cx="492120" cy="1552680"/>
            </a:xfrm>
          </p:grpSpPr>
          <p:sp>
            <p:nvSpPr>
              <p:cNvPr id="244" name=""/>
              <p:cNvSpPr/>
              <p:nvPr/>
            </p:nvSpPr>
            <p:spPr>
              <a:xfrm>
                <a:off x="6781680" y="914400"/>
                <a:ext cx="457200" cy="380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816600" y="2085840"/>
                <a:ext cx="457200" cy="3812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ce in Internet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228600" y="0"/>
          <a:ext cx="739152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73915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6019920" y="5181480"/>
            <a:ext cx="2666880" cy="1326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confidence        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ate confidence 4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confidence        8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Sites 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eb Sites Us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3192120"/>
            <a:ext cx="4033800" cy="29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viest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one boo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d/State ag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52640" y="3276360"/>
            <a:ext cx="40338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er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M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x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DC Won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5238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47880" y="1981080"/>
            <a:ext cx="5448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ge number of web sites u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all number of users per web 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228600" y="166680"/>
          <a:ext cx="5638680" cy="5943600"/>
        </p:xfrm>
        <a:graphic>
          <a:graphicData uri="http://schemas.openxmlformats.org/drawingml/2006/table">
            <a:tbl>
              <a:tblPr/>
              <a:tblGrid>
                <a:gridCol w="3382920"/>
                <a:gridCol w="2255760"/>
              </a:tblGrid>
              <a:tr h="6145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tes used more than 1/da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TE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PONS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636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6095880" y="876240"/>
            <a:ext cx="2819520" cy="324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Gov Ag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Reg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Litera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Phone B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Data 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272280" y="1438200"/>
            <a:ext cx="411120" cy="3524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72280" y="2038320"/>
            <a:ext cx="411120" cy="35244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72280" y="2597040"/>
            <a:ext cx="411120" cy="3524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272280" y="3138480"/>
            <a:ext cx="411120" cy="35244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72280" y="933480"/>
            <a:ext cx="411120" cy="352440"/>
          </a:xfrm>
          <a:prstGeom prst="rect">
            <a:avLst/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272280" y="3643200"/>
            <a:ext cx="411120" cy="35244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2496960" y="252360"/>
          <a:ext cx="6494760" cy="6386400"/>
        </p:xfrm>
        <a:graphic>
          <a:graphicData uri="http://schemas.openxmlformats.org/drawingml/2006/table">
            <a:tbl>
              <a:tblPr/>
              <a:tblGrid>
                <a:gridCol w="4832640"/>
                <a:gridCol w="166212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267" name=""/>
          <p:cNvSpPr/>
          <p:nvPr/>
        </p:nvSpPr>
        <p:spPr>
          <a:xfrm>
            <a:off x="209520" y="766800"/>
            <a:ext cx="22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tes used 6-25/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76320" y="2273400"/>
            <a:ext cx="2354040" cy="3241800"/>
            <a:chOff x="76320" y="2273400"/>
            <a:chExt cx="2354040" cy="3241800"/>
          </a:xfrm>
        </p:grpSpPr>
        <p:sp>
          <p:nvSpPr>
            <p:cNvPr id="269" name=""/>
            <p:cNvSpPr/>
            <p:nvPr/>
          </p:nvSpPr>
          <p:spPr>
            <a:xfrm>
              <a:off x="76320" y="22734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65040" y="27957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65040" y="32432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65040" y="37846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65040" y="42386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5040" y="22953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5040" y="46623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3048120" y="142920"/>
          <a:ext cx="5486400" cy="6324480"/>
        </p:xfrm>
        <a:graphic>
          <a:graphicData uri="http://schemas.openxmlformats.org/drawingml/2006/table">
            <a:tbl>
              <a:tblPr/>
              <a:tblGrid>
                <a:gridCol w="4313160"/>
                <a:gridCol w="11732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>
            <a:off x="457200" y="12222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tes used 1-5/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76320" y="2273400"/>
            <a:ext cx="2354040" cy="3241800"/>
            <a:chOff x="76320" y="2273400"/>
            <a:chExt cx="2354040" cy="3241800"/>
          </a:xfrm>
        </p:grpSpPr>
        <p:sp>
          <p:nvSpPr>
            <p:cNvPr id="279" name=""/>
            <p:cNvSpPr/>
            <p:nvPr/>
          </p:nvSpPr>
          <p:spPr>
            <a:xfrm>
              <a:off x="76320" y="22734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65040" y="27957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65040" y="32432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65040" y="37846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040" y="42386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65040" y="22953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65040" y="46623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"/>
          <p:cNvGraphicFramePr/>
          <p:nvPr/>
        </p:nvGraphicFramePr>
        <p:xfrm>
          <a:off x="3581280" y="176040"/>
          <a:ext cx="5257800" cy="6600960"/>
        </p:xfrm>
        <a:graphic>
          <a:graphicData uri="http://schemas.openxmlformats.org/drawingml/2006/table">
            <a:tbl>
              <a:tblPr/>
              <a:tblGrid>
                <a:gridCol w="4118040"/>
                <a:gridCol w="113976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4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43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87" name=""/>
          <p:cNvSpPr/>
          <p:nvPr/>
        </p:nvSpPr>
        <p:spPr>
          <a:xfrm>
            <a:off x="685800" y="1158840"/>
            <a:ext cx="2133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tes Used 0/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520560" y="2784600"/>
            <a:ext cx="2354040" cy="3241800"/>
            <a:chOff x="520560" y="2784600"/>
            <a:chExt cx="2354040" cy="3241800"/>
          </a:xfrm>
        </p:grpSpPr>
        <p:sp>
          <p:nvSpPr>
            <p:cNvPr id="289" name=""/>
            <p:cNvSpPr/>
            <p:nvPr/>
          </p:nvSpPr>
          <p:spPr>
            <a:xfrm>
              <a:off x="520560" y="27846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09280" y="33069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09280" y="37544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09280" y="42958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09280" y="47498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09280" y="28065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09280" y="51735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CHD Information Environment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2002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persed off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ing Room in one 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ut 20 print journal subscri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pies on requ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 library privileges for ACHD/GSPH adjunct faculty (1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3733920" y="103320"/>
          <a:ext cx="5029200" cy="6324480"/>
        </p:xfrm>
        <a:graphic>
          <a:graphicData uri="http://schemas.openxmlformats.org/drawingml/2006/table">
            <a:tbl>
              <a:tblPr/>
              <a:tblGrid>
                <a:gridCol w="3639960"/>
                <a:gridCol w="13892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297" name=""/>
          <p:cNvSpPr/>
          <p:nvPr/>
        </p:nvSpPr>
        <p:spPr>
          <a:xfrm>
            <a:off x="685800" y="1596960"/>
            <a:ext cx="2514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tal, Any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520560" y="2784600"/>
            <a:ext cx="2354040" cy="3241800"/>
            <a:chOff x="520560" y="2784600"/>
            <a:chExt cx="2354040" cy="3241800"/>
          </a:xfrm>
        </p:grpSpPr>
        <p:sp>
          <p:nvSpPr>
            <p:cNvPr id="299" name=""/>
            <p:cNvSpPr/>
            <p:nvPr/>
          </p:nvSpPr>
          <p:spPr>
            <a:xfrm>
              <a:off x="520560" y="27846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09280" y="33069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09280" y="37544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09280" y="42958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9280" y="47498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09280" y="28065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09280" y="51735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earch Skill Self Rating: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Selected web sit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457200" y="1676520"/>
          <a:ext cx="8229600" cy="4206600"/>
        </p:xfrm>
        <a:graphic>
          <a:graphicData uri="http://schemas.openxmlformats.org/drawingml/2006/table">
            <a:tbl>
              <a:tblPr/>
              <a:tblGrid>
                <a:gridCol w="1523880"/>
                <a:gridCol w="838440"/>
                <a:gridCol w="990360"/>
                <a:gridCol w="1386000"/>
                <a:gridCol w="1103400"/>
                <a:gridCol w="1168200"/>
                <a:gridCol w="1219320"/>
              </a:tblGrid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er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me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v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ed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D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nder (18)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bmed (2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ittcat (1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xnet (2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"/>
          <p:cNvSpPr/>
          <p:nvPr/>
        </p:nvSpPr>
        <p:spPr>
          <a:xfrm>
            <a:off x="1066680" y="64008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447920" y="6095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Total who used the site, any amount/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rnet Content Couldn’t Fi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685800" y="1752480"/>
          <a:ext cx="7772400" cy="3684600"/>
        </p:xfrm>
        <a:graphic>
          <a:graphicData uri="http://schemas.openxmlformats.org/drawingml/2006/table">
            <a:tbl>
              <a:tblPr/>
              <a:tblGrid>
                <a:gridCol w="216000"/>
                <a:gridCol w="1651680"/>
                <a:gridCol w="2865600"/>
                <a:gridCol w="2794320"/>
                <a:gridCol w="244800"/>
              </a:tblGrid>
              <a:tr h="11912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 there information you wish to access via the Internet that you have not been able to locate or use?  n=13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8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8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mmary, What They Couldn’t Fi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who gave text answers: 27 out of 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ic needs PHIA can’t address: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s PHIA can address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urnal articles (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ining (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ical chem/engineering info (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istics 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ory info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y info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umer Health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oratory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"/>
          <p:cNvGraphicFramePr/>
          <p:nvPr/>
        </p:nvGraphicFramePr>
        <p:xfrm>
          <a:off x="457200" y="762120"/>
          <a:ext cx="8381880" cy="5533920"/>
        </p:xfrm>
        <a:graphic>
          <a:graphicData uri="http://schemas.openxmlformats.org/drawingml/2006/table">
            <a:tbl>
              <a:tblPr/>
              <a:tblGrid>
                <a:gridCol w="264960"/>
                <a:gridCol w="1721160"/>
                <a:gridCol w="3103560"/>
                <a:gridCol w="3027240"/>
                <a:gridCol w="264960"/>
              </a:tblGrid>
              <a:tr h="22269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inking back on the past work week, were there any times when you needed information (in any format) to accomplish a job-related task, but were unable to obtain the information? n=1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0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0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7" name=""/>
          <p:cNvGraphicFramePr/>
          <p:nvPr/>
        </p:nvGraphicFramePr>
        <p:xfrm>
          <a:off x="304920" y="304920"/>
          <a:ext cx="8613720" cy="6659280"/>
        </p:xfrm>
        <a:graphic>
          <a:graphicData uri="http://schemas.openxmlformats.org/drawingml/2006/table">
            <a:tbl>
              <a:tblPr/>
              <a:tblGrid>
                <a:gridCol w="1590840"/>
                <a:gridCol w="3342600"/>
                <a:gridCol w="1442520"/>
                <a:gridCol w="2022480"/>
                <a:gridCol w="216000"/>
              </a:tblGrid>
              <a:tr h="1329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 barriers did you encounter to obtaining the information? Please check all that apply.</a:t>
                      </a:r>
                      <a:br>
                        <a:rPr sz="2400"/>
                      </a:br>
                      <a:br>
                        <a:rPr sz="1000"/>
                      </a:b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=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(x/18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as unable to locate a source for the information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as able to locate a source, but not able to obtain the sourc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did not have time to complete the task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 source was too expensiv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 problems. Please list below.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7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 was not sure of where to look. (1)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Inexperienced in where and how to locate programs offering data (1)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Information was too generic/ consumer oriented (1) 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lectronic Tutorial Intere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685800" y="1981080"/>
          <a:ext cx="7772400" cy="4172040"/>
        </p:xfrm>
        <a:graphic>
          <a:graphicData uri="http://schemas.openxmlformats.org/drawingml/2006/table">
            <a:tbl>
              <a:tblPr/>
              <a:tblGrid>
                <a:gridCol w="4541760"/>
                <a:gridCol w="1614600"/>
                <a:gridCol w="16160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=1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a refresher after attending a live c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a substitute to attending a live c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at a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rvey Conclus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for training demonstrat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all employees are highly skilled and  confident using the 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 resources underutil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ss to librarian and library collections needed to overcome information barriers 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time to searc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knowing where to lo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money for fee based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SLS  200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s U of Pittsburgh and UP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ff – 25 professional librarians, 36 support and technical staff, plus student assist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ion – app. 200,000 books, 2,600 journal subscriptions, 2,000 Audiovisuals, 1,700 educational software pr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8 (99%) of core PH journ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69 PH specialty journa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ressing Training Nee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s on classes– 7 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Med - Internet I  &amp; I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stical Resources -Evidence Based Public Health – Consumer Health – Grant Funding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ail – Tuesday Info Tip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 Internet search tips, sent week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purpose: increase program vis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ressing Information Barri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181160"/>
            <a:ext cx="777240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 Servi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 search requests/year, 30 other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urnal article deliv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10 requ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k borrow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rate use, stats not retriev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IA web si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www.hsls.pitt.edu/phia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homepage" descr=""/>
          <p:cNvPicPr/>
          <p:nvPr/>
        </p:nvPicPr>
        <p:blipFill>
          <a:blip r:embed="rId1"/>
          <a:stretch/>
        </p:blipFill>
        <p:spPr>
          <a:xfrm>
            <a:off x="866880" y="152280"/>
            <a:ext cx="74102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Links%20Page" descr=""/>
          <p:cNvPicPr/>
          <p:nvPr/>
        </p:nvPicPr>
        <p:blipFill>
          <a:blip r:embed="rId1"/>
          <a:stretch/>
        </p:blipFill>
        <p:spPr>
          <a:xfrm>
            <a:off x="866880" y="-9360"/>
            <a:ext cx="7410240" cy="68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Injury%20Prevention" descr=""/>
          <p:cNvPicPr/>
          <p:nvPr/>
        </p:nvPicPr>
        <p:blipFill>
          <a:blip r:embed="rId1"/>
          <a:stretch/>
        </p:blipFill>
        <p:spPr>
          <a:xfrm>
            <a:off x="990720" y="285840"/>
            <a:ext cx="708660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IA Continuatio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arly contract for document delivery cover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rarian funded through the  Center for Public Health Practice, GSPH, University of Pittsbur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ngoing Goals of PH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enhanced library services to 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e the academic/practitioner partnership model for library service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seminate findings to other health departments and libr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project has been funded with Federal funds from the National Library of Medicine, National Institutes of Health, under Contract No. N01-LM-352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ors:  Barbara Folb, MLS,  Barbara Epstein, MS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further information contact Barbara Folb, 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folb@pitt.ed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IA Steering Committe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ice Kindling, Train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 Schwartz, Policy Development and Assess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S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bara Epstein, Dir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ncy Tannery, Associate Director for Information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bara Folb, Public Health Librar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uccessful Program Characteristic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 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 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name recognition at 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potential access to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use of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ant Funding Alloc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LM 18 month grant, March 1, 2003- August 31, 200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rarian/Project Manager 2 days/w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erence, training, web sit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tocopy service support (journal articles, book chapter copi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itial PHIA Surve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pose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ining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sit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ly/August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publicity ro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ba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41 responses  from a possible 350 (ap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rvey Top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ce in Internet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imated use of specific web resources and search eng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information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rnet U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9:33:21Z</dcterms:created>
  <dc:creator>techuser</dc:creator>
  <dc:description/>
  <dc:language>en-US</dc:language>
  <cp:lastModifiedBy>techuser</cp:lastModifiedBy>
  <dcterms:modified xsi:type="dcterms:W3CDTF">2004-11-04T20:31:50Z</dcterms:modified>
  <cp:revision>18</cp:revision>
  <dc:subject/>
  <dc:title>PowerPoint Presentation</dc:title>
</cp:coreProperties>
</file>