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26EDF-F8C8-4D27-B30A-15D2300EE0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purpose was to support the development of the PHIA program, practical not research orien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reated the questions, modified them based on feedback from the ACHD Training committee and the PHIA steering committ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pt it relatively short, aiming for 5-10 minutes to 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0A37-8BA7-4073-A376-2E8C897FF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AB5D-095A-48C1-AE55-D18EF17EB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35AF-F49B-446C-AE6E-5675B5E04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EB40-9BB6-4FC9-8020-69FB2D534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DE421-ABA4-4279-9070-02460B4DC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606E5-2665-42EA-AC72-0787BC838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E566B-A74F-47D6-9CB8-DB4990A99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B1051-1169-42FA-B5F1-E7994B75E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52638-9910-4176-9947-429BE2392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D61C3-E58D-4CB5-821F-EC8AC2F0A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E19E3-7F6B-4F6A-A896-9C942F345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D6DB-CA06-4671-A6B1-B61C82D26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94C6B-0BF9-4566-9A49-935881B97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FB717-AABA-43AC-9766-F9A40B1FC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E458E-C140-4513-90F7-132206E51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6FF16-4160-4AE1-92C3-75FD2F483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31829-D448-4D99-8F09-BD850D857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E45A-AC3D-44CA-B04D-971487600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C540-6DD5-47EB-9FD9-F1D4824C1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4E05-528D-442A-8E57-965246CDD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B0CC-C0C1-47BD-9550-E33300FB8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DECF-4D62-4DC1-914B-DB27D20DF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480B-6375-4659-B7B1-9F516BBF9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C4ED-A67C-43E7-B00E-A5D67A0FE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B4684-C718-49A2-860F-BE579860517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CD4D6-D45C-447D-90F7-C24CFBF7722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hsls.pitt.edu/phia/" TargetMode="External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mailto:folb@pitt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Evaluating and Addressing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the Information Needs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of an Urban Public Health Department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Through an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Academic Health Sciences Library Health Department Partnership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528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enter:  Barbara Folb, ML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lth Sciences Library System, University of Pittsburg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0" y="235080"/>
          <a:ext cx="8674200" cy="492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5080"/>
                    <a:ext cx="8674200" cy="49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4876920" y="5181480"/>
            <a:ext cx="3809880" cy="13262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Us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17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rate use (1-10)     6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er use (11- )          6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260280" y="149400"/>
          <a:ext cx="6286680" cy="655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0280" y="149400"/>
                    <a:ext cx="6286680" cy="65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1" name=""/>
          <p:cNvGrpSpPr/>
          <p:nvPr/>
        </p:nvGrpSpPr>
        <p:grpSpPr>
          <a:xfrm>
            <a:off x="6781680" y="914400"/>
            <a:ext cx="2362320" cy="1572120"/>
            <a:chOff x="6781680" y="914400"/>
            <a:chExt cx="2362320" cy="1572120"/>
          </a:xfrm>
        </p:grpSpPr>
        <p:sp>
          <p:nvSpPr>
            <p:cNvPr id="242" name=""/>
            <p:cNvSpPr/>
            <p:nvPr/>
          </p:nvSpPr>
          <p:spPr>
            <a:xfrm>
              <a:off x="6781680" y="914400"/>
              <a:ext cx="236232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Maj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ivis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Subdivis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6781680" y="914400"/>
              <a:ext cx="492120" cy="1552680"/>
              <a:chOff x="6781680" y="914400"/>
              <a:chExt cx="492120" cy="1552680"/>
            </a:xfrm>
          </p:grpSpPr>
          <p:sp>
            <p:nvSpPr>
              <p:cNvPr id="244" name=""/>
              <p:cNvSpPr/>
              <p:nvPr/>
            </p:nvSpPr>
            <p:spPr>
              <a:xfrm>
                <a:off x="6781680" y="914400"/>
                <a:ext cx="457200" cy="3808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816600" y="2085840"/>
                <a:ext cx="457200" cy="38124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idence in Internet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" name=""/>
          <p:cNvGraphicFramePr/>
          <p:nvPr/>
        </p:nvGraphicFramePr>
        <p:xfrm>
          <a:off x="228600" y="0"/>
          <a:ext cx="7391520" cy="586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73915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6019920" y="5181480"/>
            <a:ext cx="2666880" cy="13262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 confidence        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rate confidence 4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confidence        8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 Sites U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eb Sites Use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3192120"/>
            <a:ext cx="4033800" cy="29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viest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one boo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d/State age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52640" y="3276360"/>
            <a:ext cx="40338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ghter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M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x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DC Won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15238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847880" y="1981080"/>
            <a:ext cx="5448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rge number of web sites u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all number of users per web s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"/>
          <p:cNvGraphicFramePr/>
          <p:nvPr/>
        </p:nvGraphicFramePr>
        <p:xfrm>
          <a:off x="228600" y="166680"/>
          <a:ext cx="5638680" cy="5943600"/>
        </p:xfrm>
        <a:graphic>
          <a:graphicData uri="http://schemas.openxmlformats.org/drawingml/2006/table">
            <a:tbl>
              <a:tblPr/>
              <a:tblGrid>
                <a:gridCol w="3382920"/>
                <a:gridCol w="2255760"/>
              </a:tblGrid>
              <a:tr h="61452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tes used more than 1/da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TE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SPONS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35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636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59" name=""/>
          <p:cNvSpPr/>
          <p:nvPr/>
        </p:nvSpPr>
        <p:spPr>
          <a:xfrm>
            <a:off x="6095880" y="876240"/>
            <a:ext cx="2819520" cy="324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Ot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Gov Age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Reg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Litera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Phone B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Data Sou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272280" y="1438200"/>
            <a:ext cx="411120" cy="3524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72280" y="2038320"/>
            <a:ext cx="411120" cy="35244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72280" y="2597040"/>
            <a:ext cx="411120" cy="3524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272280" y="3138480"/>
            <a:ext cx="411120" cy="352440"/>
          </a:xfrm>
          <a:prstGeom prst="rect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272280" y="933480"/>
            <a:ext cx="411120" cy="352440"/>
          </a:xfrm>
          <a:prstGeom prst="rect">
            <a:avLst/>
          </a:prstGeom>
          <a:solidFill>
            <a:srgbClr val="cc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272280" y="3643200"/>
            <a:ext cx="411120" cy="35244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6" name=""/>
          <p:cNvGraphicFramePr/>
          <p:nvPr/>
        </p:nvGraphicFramePr>
        <p:xfrm>
          <a:off x="2496960" y="252360"/>
          <a:ext cx="6494760" cy="6386400"/>
        </p:xfrm>
        <a:graphic>
          <a:graphicData uri="http://schemas.openxmlformats.org/drawingml/2006/table">
            <a:tbl>
              <a:tblPr/>
              <a:tblGrid>
                <a:gridCol w="4832640"/>
                <a:gridCol w="166212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03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</a:tbl>
          </a:graphicData>
        </a:graphic>
      </p:graphicFrame>
      <p:sp>
        <p:nvSpPr>
          <p:cNvPr id="267" name=""/>
          <p:cNvSpPr/>
          <p:nvPr/>
        </p:nvSpPr>
        <p:spPr>
          <a:xfrm>
            <a:off x="209520" y="766800"/>
            <a:ext cx="226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tes used 6-25/mon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76320" y="2273400"/>
            <a:ext cx="2354040" cy="3241800"/>
            <a:chOff x="76320" y="2273400"/>
            <a:chExt cx="2354040" cy="3241800"/>
          </a:xfrm>
        </p:grpSpPr>
        <p:sp>
          <p:nvSpPr>
            <p:cNvPr id="269" name=""/>
            <p:cNvSpPr/>
            <p:nvPr/>
          </p:nvSpPr>
          <p:spPr>
            <a:xfrm>
              <a:off x="76320" y="22734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65040" y="27957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65040" y="32432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65040" y="37846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65040" y="42386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65040" y="22953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65040" y="46623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6" name=""/>
          <p:cNvGraphicFramePr/>
          <p:nvPr/>
        </p:nvGraphicFramePr>
        <p:xfrm>
          <a:off x="3048120" y="142920"/>
          <a:ext cx="5486400" cy="6324480"/>
        </p:xfrm>
        <a:graphic>
          <a:graphicData uri="http://schemas.openxmlformats.org/drawingml/2006/table">
            <a:tbl>
              <a:tblPr/>
              <a:tblGrid>
                <a:gridCol w="4313160"/>
                <a:gridCol w="117324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sp>
        <p:nvSpPr>
          <p:cNvPr id="277" name=""/>
          <p:cNvSpPr/>
          <p:nvPr/>
        </p:nvSpPr>
        <p:spPr>
          <a:xfrm>
            <a:off x="457200" y="12222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ites used 1-5/mon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76320" y="2273400"/>
            <a:ext cx="2354040" cy="3241800"/>
            <a:chOff x="76320" y="2273400"/>
            <a:chExt cx="2354040" cy="3241800"/>
          </a:xfrm>
        </p:grpSpPr>
        <p:sp>
          <p:nvSpPr>
            <p:cNvPr id="279" name=""/>
            <p:cNvSpPr/>
            <p:nvPr/>
          </p:nvSpPr>
          <p:spPr>
            <a:xfrm>
              <a:off x="76320" y="22734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65040" y="27957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65040" y="32432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65040" y="37846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040" y="42386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65040" y="22953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65040" y="46623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"/>
          <p:cNvGraphicFramePr/>
          <p:nvPr/>
        </p:nvGraphicFramePr>
        <p:xfrm>
          <a:off x="3581280" y="176040"/>
          <a:ext cx="5257800" cy="6600960"/>
        </p:xfrm>
        <a:graphic>
          <a:graphicData uri="http://schemas.openxmlformats.org/drawingml/2006/table">
            <a:tbl>
              <a:tblPr/>
              <a:tblGrid>
                <a:gridCol w="4118040"/>
                <a:gridCol w="113976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44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443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sp>
        <p:nvSpPr>
          <p:cNvPr id="287" name=""/>
          <p:cNvSpPr/>
          <p:nvPr/>
        </p:nvSpPr>
        <p:spPr>
          <a:xfrm>
            <a:off x="685800" y="1158840"/>
            <a:ext cx="2133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tes Used 0/mon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520560" y="2784600"/>
            <a:ext cx="2354040" cy="3241800"/>
            <a:chOff x="520560" y="2784600"/>
            <a:chExt cx="2354040" cy="3241800"/>
          </a:xfrm>
        </p:grpSpPr>
        <p:sp>
          <p:nvSpPr>
            <p:cNvPr id="289" name=""/>
            <p:cNvSpPr/>
            <p:nvPr/>
          </p:nvSpPr>
          <p:spPr>
            <a:xfrm>
              <a:off x="520560" y="27846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09280" y="33069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09280" y="37544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09280" y="42958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09280" y="47498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09280" y="28065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09280" y="51735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CHD Information Environment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2002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persed off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ing Room in one lo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out 20 print journal subscrip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pies on requ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et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ll library privileges for ACHD/GSPH adjunct faculty (1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6" name=""/>
          <p:cNvGraphicFramePr/>
          <p:nvPr/>
        </p:nvGraphicFramePr>
        <p:xfrm>
          <a:off x="3733920" y="103320"/>
          <a:ext cx="5029200" cy="6324480"/>
        </p:xfrm>
        <a:graphic>
          <a:graphicData uri="http://schemas.openxmlformats.org/drawingml/2006/table">
            <a:tbl>
              <a:tblPr/>
              <a:tblGrid>
                <a:gridCol w="3639960"/>
                <a:gridCol w="138924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</a:tbl>
          </a:graphicData>
        </a:graphic>
      </p:graphicFrame>
      <p:sp>
        <p:nvSpPr>
          <p:cNvPr id="297" name=""/>
          <p:cNvSpPr/>
          <p:nvPr/>
        </p:nvSpPr>
        <p:spPr>
          <a:xfrm>
            <a:off x="685800" y="1596960"/>
            <a:ext cx="2514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otal, Any 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520560" y="2784600"/>
            <a:ext cx="2354040" cy="3241800"/>
            <a:chOff x="520560" y="2784600"/>
            <a:chExt cx="2354040" cy="3241800"/>
          </a:xfrm>
        </p:grpSpPr>
        <p:sp>
          <p:nvSpPr>
            <p:cNvPr id="299" name=""/>
            <p:cNvSpPr/>
            <p:nvPr/>
          </p:nvSpPr>
          <p:spPr>
            <a:xfrm>
              <a:off x="520560" y="27846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09280" y="33069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09280" y="37544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09280" y="42958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9280" y="47498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09280" y="28065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09280" y="51735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earch Skill Self Rating: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Selected web sit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457200" y="1676520"/>
          <a:ext cx="8229600" cy="4206600"/>
        </p:xfrm>
        <a:graphic>
          <a:graphicData uri="http://schemas.openxmlformats.org/drawingml/2006/table">
            <a:tbl>
              <a:tblPr/>
              <a:tblGrid>
                <a:gridCol w="1523880"/>
                <a:gridCol w="838440"/>
                <a:gridCol w="990360"/>
                <a:gridCol w="1386000"/>
                <a:gridCol w="1103400"/>
                <a:gridCol w="1168200"/>
                <a:gridCol w="1219320"/>
              </a:tblGrid>
              <a:tr h="1008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g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gh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der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me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v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ed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D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onder (18)*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ubmed (2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ittcat (1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xnet (2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8" name=""/>
          <p:cNvSpPr/>
          <p:nvPr/>
        </p:nvSpPr>
        <p:spPr>
          <a:xfrm>
            <a:off x="1066680" y="64008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447920" y="60958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Total who used the site, any amount/mon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riers to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ternet Content Couldn’t Fin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685800" y="1752480"/>
          <a:ext cx="7772400" cy="3684600"/>
        </p:xfrm>
        <a:graphic>
          <a:graphicData uri="http://schemas.openxmlformats.org/drawingml/2006/table">
            <a:tbl>
              <a:tblPr/>
              <a:tblGrid>
                <a:gridCol w="216000"/>
                <a:gridCol w="1651680"/>
                <a:gridCol w="2865600"/>
                <a:gridCol w="2794320"/>
                <a:gridCol w="244800"/>
              </a:tblGrid>
              <a:tr h="11912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s there information you wish to access via the Internet that you have not been able to locate or use?  n=13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8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8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mmary, What They Couldn’t Fin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tal who gave text answers: 27 out of 2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fic needs PHIA can’t address: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s PHIA can address: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urnal articles (6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ining (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ical chem/engineering info (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istics 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ctory info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tory info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umer Health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boratory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6" name=""/>
          <p:cNvGraphicFramePr/>
          <p:nvPr/>
        </p:nvGraphicFramePr>
        <p:xfrm>
          <a:off x="457200" y="762120"/>
          <a:ext cx="8381880" cy="5533920"/>
        </p:xfrm>
        <a:graphic>
          <a:graphicData uri="http://schemas.openxmlformats.org/drawingml/2006/table">
            <a:tbl>
              <a:tblPr/>
              <a:tblGrid>
                <a:gridCol w="264960"/>
                <a:gridCol w="1721160"/>
                <a:gridCol w="3103560"/>
                <a:gridCol w="3027240"/>
                <a:gridCol w="264960"/>
              </a:tblGrid>
              <a:tr h="22269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inking back on the past work week, were there any times when you needed information (in any format) to accomplish a job-related task, but were unable to obtain the information? n=1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03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03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0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7" name=""/>
          <p:cNvGraphicFramePr/>
          <p:nvPr/>
        </p:nvGraphicFramePr>
        <p:xfrm>
          <a:off x="304920" y="304920"/>
          <a:ext cx="8613720" cy="6659280"/>
        </p:xfrm>
        <a:graphic>
          <a:graphicData uri="http://schemas.openxmlformats.org/drawingml/2006/table">
            <a:tbl>
              <a:tblPr/>
              <a:tblGrid>
                <a:gridCol w="1590840"/>
                <a:gridCol w="3342600"/>
                <a:gridCol w="1442520"/>
                <a:gridCol w="2022480"/>
                <a:gridCol w="216000"/>
              </a:tblGrid>
              <a:tr h="13291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at barriers did you encounter to obtaining the information? Please check all that apply.</a:t>
                      </a:r>
                      <a:br>
                        <a:rPr sz="2400"/>
                      </a:br>
                      <a:br>
                        <a:rPr sz="1000"/>
                      </a:b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=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(x/18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was unable to locate a source for the information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was able to locate a source, but not able to obtain the sourc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did not have time to complete the task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e source was too expensiv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 problems. Please list below.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07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 was not sure of where to look. (1)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Inexperienced in where and how to locate programs offering data (1)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Information was too generic/ consumer oriented (1) 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ning P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lectronic Tutorial Interes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685800" y="1981080"/>
          <a:ext cx="7772400" cy="4172040"/>
        </p:xfrm>
        <a:graphic>
          <a:graphicData uri="http://schemas.openxmlformats.org/drawingml/2006/table">
            <a:tbl>
              <a:tblPr/>
              <a:tblGrid>
                <a:gridCol w="4541760"/>
                <a:gridCol w="1614600"/>
                <a:gridCol w="16160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=1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 a refresher after attending a live cla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 a substitute to attending a live cla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7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 at al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rvey Conclus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 for training demonstrat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all employees are highly skilled and  confident using the Inte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able  resources underutil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ess to librarian and library collections needed to overcome information barriers 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ck of time to searc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knowing where to lo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ck of money for fee based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SLS  200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ves U of Pittsburgh and UPM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ff – 25 professional librarians, 36 support and technical staff, plus student assist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ection – app. 200,000 books, 2,600 journal subscriptions, 2,000 Audiovisuals, 1,700 educational software pro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8 (99%) of core PH journ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69 PH specialty journal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dressing Training Nee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nds on classes– 7 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Med - Internet I  &amp; I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istical Resources -Evidence Based Public Health – Consumer Health – Grant Funding Re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ail – Tuesday Info Tip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rt Internet search tips, sent week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purpose: increase program visi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7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dressing Information Barrie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181160"/>
            <a:ext cx="777240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ence Servic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0 search requests/year, 30 other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urnal article deliv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10 requ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ok borrow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rate use, stats not retriev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IA web sit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://www.hsls.pitt.edu/phia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homepage" descr=""/>
          <p:cNvPicPr/>
          <p:nvPr/>
        </p:nvPicPr>
        <p:blipFill>
          <a:blip r:embed="rId1"/>
          <a:stretch/>
        </p:blipFill>
        <p:spPr>
          <a:xfrm>
            <a:off x="866880" y="152280"/>
            <a:ext cx="741024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Links%20Page" descr=""/>
          <p:cNvPicPr/>
          <p:nvPr/>
        </p:nvPicPr>
        <p:blipFill>
          <a:blip r:embed="rId1"/>
          <a:stretch/>
        </p:blipFill>
        <p:spPr>
          <a:xfrm>
            <a:off x="866880" y="-9360"/>
            <a:ext cx="7410240" cy="68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Injury%20Prevention" descr=""/>
          <p:cNvPicPr/>
          <p:nvPr/>
        </p:nvPicPr>
        <p:blipFill>
          <a:blip r:embed="rId1"/>
          <a:stretch/>
        </p:blipFill>
        <p:spPr>
          <a:xfrm>
            <a:off x="990720" y="285840"/>
            <a:ext cx="708660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IA Continuation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arly contract for document delivery cover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brarian funded through the  Center for Public Health Practice, GSPH, University of Pittsburg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ngoing Goals of PH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enhanced library services to AC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te the academic/practitioner partnership model for library service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seminate findings to other health departments and libra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project has been funded with Federal funds from the National Library of Medicine, National Institutes of Health, under Contract No. N01-LM-352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hors:  Barbara Folb, MLS,  Barbara Epstein, MS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further information contact Barbara Folb, </a:t>
            </a: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folb@pitt.ed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IA Steering Committe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ice Kindling, Train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d Schwartz, Policy Development and Assess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S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rbara Epstein, Dire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ncy Tannery, Associate Director for Information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rbara Folb, Public Health Librar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uccessful Program Characteristic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sy to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e eff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t eff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 name recognition at AC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s potential access to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s use of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rant Funding Alloc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LM 18 month grant, March 1, 2003- August 31, 200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brarian/Project Manager 2 days/we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erence, training, web site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tocopy service support (journal articles, book chapter copi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itial PHIA Surve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rpose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ining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site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ly/August 20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e publicity rou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 ba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41 responses  from a possible 350 (ap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rvey Topic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et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idence in Internet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imated use of specific web resources and search eng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riers to information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ning p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ternet U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19:33:21Z</dcterms:created>
  <dc:creator>techuser</dc:creator>
  <dc:description/>
  <dc:language>en-US</dc:language>
  <cp:lastModifiedBy>techuser</cp:lastModifiedBy>
  <dcterms:modified xsi:type="dcterms:W3CDTF">2004-11-04T20:31:50Z</dcterms:modified>
  <cp:revision>18</cp:revision>
  <dc:subject/>
  <dc:title>PowerPoint Presentation</dc:title>
</cp:coreProperties>
</file>