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6BEB-9B24-4D2E-A508-B6E195A6D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purpose was to support the development of the PHIA program, practical not research ori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reated the questions, modified them based on feedback from the ACHD Training committee and the PHIA steering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t it relatively short, aiming for 5-10 minutes to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4565-FE3C-48CB-B42F-517354CE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748D-FE1C-4C26-BEE9-04CD7C8C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07AE-98E5-428D-9753-E548E5DFA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1B4F-3AD0-4231-8E32-8BECF3DC9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69D4-D41A-49D8-88CB-DDDF779BD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F2FB-0422-437C-B402-A0D7006B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AB5A-6538-4351-9E01-B2584184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53FD-52FC-4D95-9053-E62367FE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20DA-C460-4CD8-9F51-18F91D86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C805-5A51-434A-BE82-16C076E1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415A-CE2D-4FBF-832E-89BC8C0A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D151-0915-4A02-A09E-7940892D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3F5F-F8EF-4340-B7CA-B7819A8F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D156-C574-4068-B1B1-A74E513E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1994-085D-415D-9904-B1C1B5CE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E8A4-EE51-4E10-9E14-610B394F6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F1FF-A070-4094-A371-F3605BA70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8294-E741-4697-AB40-7245EC83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7DB1-891E-4F84-AE99-1B172685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381E-872C-4962-9A44-FFB837E7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2B5E-475E-4657-A171-77C196AB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5A09-9C6F-4CB0-A5CB-04C9637C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99B0-39B0-4B8C-BC4C-8E19C662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658C-7AC2-4005-A6A6-23CE4368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589E-EAB7-4E13-9AE8-E9D668CBE8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BD2A-BCEE-41E4-BB77-AC89140763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hsls.pitt.edu/phia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folb@pitt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valuating and Addressing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e Information Needs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of an Urban Public Health Departme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rough a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Academic Health Sciences Library Health Department Partnership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r:  Barbara Folb, ML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Sciences Library System, University of Pitts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0" y="235080"/>
          <a:ext cx="867420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86742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876920" y="5181480"/>
            <a:ext cx="3809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use (1-10)     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 (11- )          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60280" y="149400"/>
          <a:ext cx="628668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9400"/>
                    <a:ext cx="62866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"/>
          <p:cNvGrpSpPr/>
          <p:nvPr/>
        </p:nvGrpSpPr>
        <p:grpSpPr>
          <a:xfrm>
            <a:off x="6781680" y="914400"/>
            <a:ext cx="2362320" cy="1572120"/>
            <a:chOff x="6781680" y="914400"/>
            <a:chExt cx="2362320" cy="1572120"/>
          </a:xfrm>
        </p:grpSpPr>
        <p:sp>
          <p:nvSpPr>
            <p:cNvPr id="242" name=""/>
            <p:cNvSpPr/>
            <p:nvPr/>
          </p:nvSpPr>
          <p:spPr>
            <a:xfrm>
              <a:off x="6781680" y="914400"/>
              <a:ext cx="23623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Maj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Sub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781680" y="914400"/>
              <a:ext cx="492120" cy="1552680"/>
              <a:chOff x="6781680" y="914400"/>
              <a:chExt cx="492120" cy="1552680"/>
            </a:xfrm>
          </p:grpSpPr>
          <p:sp>
            <p:nvSpPr>
              <p:cNvPr id="244" name=""/>
              <p:cNvSpPr/>
              <p:nvPr/>
            </p:nvSpPr>
            <p:spPr>
              <a:xfrm>
                <a:off x="6781680" y="914400"/>
                <a:ext cx="4572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816600" y="2085840"/>
                <a:ext cx="457200" cy="381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28600" y="0"/>
          <a:ext cx="73915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7391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019920" y="5181480"/>
            <a:ext cx="2666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confidence        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confidence 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confidence       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b Sites Us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92120"/>
            <a:ext cx="403380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iest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/State ag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2640" y="3276360"/>
            <a:ext cx="4033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er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C W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47880" y="1981080"/>
            <a:ext cx="5448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number of web site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number of users per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28600" y="166680"/>
          <a:ext cx="5638680" cy="5943600"/>
        </p:xfrm>
        <a:graphic>
          <a:graphicData uri="http://schemas.openxmlformats.org/drawingml/2006/table">
            <a:tbl>
              <a:tblPr/>
              <a:tblGrid>
                <a:gridCol w="3382920"/>
                <a:gridCol w="2255760"/>
              </a:tblGrid>
              <a:tr h="614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s used more than 1/d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6095880" y="876240"/>
            <a:ext cx="2819520" cy="324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Gov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Re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Phone B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Data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72280" y="1438200"/>
            <a:ext cx="4111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72280" y="2038320"/>
            <a:ext cx="411120" cy="3524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72280" y="2597040"/>
            <a:ext cx="411120" cy="352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72280" y="3138480"/>
            <a:ext cx="411120" cy="3524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72280" y="933480"/>
            <a:ext cx="411120" cy="35244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72280" y="3643200"/>
            <a:ext cx="411120" cy="352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2496960" y="252360"/>
          <a:ext cx="6494760" cy="6386400"/>
        </p:xfrm>
        <a:graphic>
          <a:graphicData uri="http://schemas.openxmlformats.org/drawingml/2006/table">
            <a:tbl>
              <a:tblPr/>
              <a:tblGrid>
                <a:gridCol w="4832640"/>
                <a:gridCol w="1662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209520" y="766800"/>
            <a:ext cx="22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6-25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6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48120" y="142920"/>
          <a:ext cx="5486400" cy="6324480"/>
        </p:xfrm>
        <a:graphic>
          <a:graphicData uri="http://schemas.openxmlformats.org/drawingml/2006/table">
            <a:tbl>
              <a:tblPr/>
              <a:tblGrid>
                <a:gridCol w="4313160"/>
                <a:gridCol w="1173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457200" y="1222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es used 1-5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7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3581280" y="176040"/>
          <a:ext cx="5257800" cy="6600960"/>
        </p:xfrm>
        <a:graphic>
          <a:graphicData uri="http://schemas.openxmlformats.org/drawingml/2006/table">
            <a:tbl>
              <a:tblPr/>
              <a:tblGrid>
                <a:gridCol w="4118040"/>
                <a:gridCol w="11397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685800" y="1158840"/>
            <a:ext cx="2133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0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8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CHD Information Environmen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00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 Room in on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20 print journal sub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es on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library privileges for ACHD/GSPH adjunct faculty (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3733920" y="103320"/>
          <a:ext cx="5029200" cy="6324480"/>
        </p:xfrm>
        <a:graphic>
          <a:graphicData uri="http://schemas.openxmlformats.org/drawingml/2006/table">
            <a:tbl>
              <a:tblPr/>
              <a:tblGrid>
                <a:gridCol w="3639960"/>
                <a:gridCol w="1389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685800" y="159696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tal, Any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9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arch Skill Self Rating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Selected web si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1676520"/>
          <a:ext cx="8229600" cy="420660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990360"/>
                <a:gridCol w="1386000"/>
                <a:gridCol w="1103400"/>
                <a:gridCol w="1168200"/>
                <a:gridCol w="1219320"/>
              </a:tblGrid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D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nder (18)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bmed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tcat (1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xnet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066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6095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Total who used the site, any amount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et Content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772400" cy="3684600"/>
        </p:xfrm>
        <a:graphic>
          <a:graphicData uri="http://schemas.openxmlformats.org/drawingml/2006/table">
            <a:tbl>
              <a:tblPr/>
              <a:tblGrid>
                <a:gridCol w="216000"/>
                <a:gridCol w="1651680"/>
                <a:gridCol w="2865600"/>
                <a:gridCol w="2794320"/>
                <a:gridCol w="244800"/>
              </a:tblGrid>
              <a:tr h="1191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re information you wish to access via the Internet that you have not been able to locate or use?  n=1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, What They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who gave text answers: 27 out of 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needs PHIA can’t address: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 PHIA can addres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 articles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chem/engineering info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r Health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orator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457200" y="762120"/>
          <a:ext cx="8381880" cy="5533920"/>
        </p:xfrm>
        <a:graphic>
          <a:graphicData uri="http://schemas.openxmlformats.org/drawingml/2006/table">
            <a:tbl>
              <a:tblPr/>
              <a:tblGrid>
                <a:gridCol w="264960"/>
                <a:gridCol w="1721160"/>
                <a:gridCol w="3103560"/>
                <a:gridCol w="3027240"/>
                <a:gridCol w="264960"/>
              </a:tblGrid>
              <a:tr h="2226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nking back on the past work week, were there any times when you needed information (in any format) to accomplish a job-related task, but were unable to obtain the information? n=1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04920" y="304920"/>
          <a:ext cx="8613720" cy="6659280"/>
        </p:xfrm>
        <a:graphic>
          <a:graphicData uri="http://schemas.openxmlformats.org/drawingml/2006/table">
            <a:tbl>
              <a:tblPr/>
              <a:tblGrid>
                <a:gridCol w="1590840"/>
                <a:gridCol w="3342600"/>
                <a:gridCol w="1442520"/>
                <a:gridCol w="2022480"/>
                <a:gridCol w="216000"/>
              </a:tblGrid>
              <a:tr h="1329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barriers did you encounter to obtaining the information? Please check all that apply.</a:t>
                      </a:r>
                      <a:br>
                        <a:rPr sz="2400"/>
                      </a:br>
                      <a:br>
                        <a:rPr sz="10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=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(x/1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unable to locate a source for the informati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able to locate a source, but not able to obtain the sour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did not have time to complete the tas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source was too expensiv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problems. Please list below.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was not sure of where to look.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experienced in where and how to locate programs offering data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formation was too generic/ consumer oriented (1)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ronic Tutorial Inte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7772400" cy="4172040"/>
        </p:xfrm>
        <a:graphic>
          <a:graphicData uri="http://schemas.openxmlformats.org/drawingml/2006/table">
            <a:tbl>
              <a:tblPr/>
              <a:tblGrid>
                <a:gridCol w="4541760"/>
                <a:gridCol w="1614600"/>
                <a:gridCol w="1616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=1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refresher after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substitute to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at 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r training demonstr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employees are highly skilled and  confident using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 resources underuti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librarian and library collections needed to overcome information barrier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time to se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knowing where to l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money for fee based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SLS  200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U of Pittsburgh and UP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– 25 professional librarians, 36 support and technical staff, plus student assis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– app. 200,000 books, 2,600 journal subscriptions, 2,000 Audiovisuals, 1,700 educational softwar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8 (99%) of core PH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9 PH specialty journ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Training Nee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 on classes– 7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Med - Internet I  &amp; 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sources -Evidence Based Public Health – Consumer Health – Grant Fund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– Tuesday Info Ti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rnet search tips, sent wee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purpose: increase program vi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Information Barri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 search requests/year, 30 other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article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0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bor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 use, stats not retriev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A web si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hsls.pitt.edu/phia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homepage" descr=""/>
          <p:cNvPicPr/>
          <p:nvPr/>
        </p:nvPicPr>
        <p:blipFill>
          <a:blip r:embed="rId1"/>
          <a:stretch/>
        </p:blipFill>
        <p:spPr>
          <a:xfrm>
            <a:off x="866880" y="152280"/>
            <a:ext cx="741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Links%20Page" descr=""/>
          <p:cNvPicPr/>
          <p:nvPr/>
        </p:nvPicPr>
        <p:blipFill>
          <a:blip r:embed="rId1"/>
          <a:stretch/>
        </p:blipFill>
        <p:spPr>
          <a:xfrm>
            <a:off x="866880" y="-9360"/>
            <a:ext cx="741024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Injury%20Prevention" descr=""/>
          <p:cNvPicPr/>
          <p:nvPr/>
        </p:nvPicPr>
        <p:blipFill>
          <a:blip r:embed="rId1"/>
          <a:stretch/>
        </p:blipFill>
        <p:spPr>
          <a:xfrm>
            <a:off x="990720" y="285840"/>
            <a:ext cx="70866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Continu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ly contract for document delivery cover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 funded through the  Center for Public Health Practice, GSPH, University of Pittsbur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ngoing Goals of PH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nhanced library services to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the academic/practitioner partnership model for library servi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eminate findings to other health departments and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ject has been funded with Federal funds from the National Library of Medicine, National Institutes of Health, under Contract No. N01-LM-35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:  Barbara Folb, MLS,  Barbara Epstein, M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further information contact Barbara Folb,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folb@pitt.ed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Steering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ce Kindling,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 Schwartz, Policy Development and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Epstein,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Tannery, Associate Director for Inform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Folb, Public Health Libr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ccessful Program Characteristic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name recognition at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potential acces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use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nt Funding Allo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LM 18 month grant, March 1, 2003- August 31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/Project Manager 2 days/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, training, 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copy service support (journal articles, book chapter cop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itial PHIA Surv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/August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ublicity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1 responses  from a possible 350 (ap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d use of specific web resources and search eng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9:33:21Z</dcterms:created>
  <dc:creator>techuser</dc:creator>
  <dc:description/>
  <dc:language>en-US</dc:language>
  <cp:lastModifiedBy>techuser</cp:lastModifiedBy>
  <dcterms:modified xsi:type="dcterms:W3CDTF">2004-11-04T20:31:50Z</dcterms:modified>
  <cp:revision>18</cp:revision>
  <dc:subject/>
  <dc:title>PowerPoint Presentation</dc:title>
</cp:coreProperties>
</file>