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33E1-E6E2-4851-B4A6-3E08F5B24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purpose was to support the development of the PHIA program, practical not research ori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reated the questions, modified them based on feedback from the ACHD Training committee and the PHIA steering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pt it relatively short, aiming for 5-10 minutes to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4747-84B3-452F-A6FC-F721ED679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6315-BF7A-46AF-BF01-9635ACB1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5DC8-FC35-4AB6-BDC9-689908247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7BE1-915C-4B91-90AD-6F43C5129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ADD26-CBA4-4E33-9452-4A951E740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897C-968B-418F-BC04-3EF42EAB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9DD1-B6EB-477D-BDEC-B2A42F38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95C1-3F07-4CD3-A4E4-9C103DDA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F23C-287C-41E9-862A-F6676E2E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B9BF-3229-48F2-B7C6-F790BE7E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031F-1D0A-49C9-9B68-B7E3BDC2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9C7C-0E0A-42EE-901E-9DB493DC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EA44-D47F-403B-B6CF-967A35C5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C352-9C3A-4273-9DD2-4786805C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23308-A7D3-4DCA-B3B8-D5CBC433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5B16-4BF2-465C-B72B-3CCCE178E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CA83-A772-4D4E-BC95-5BBBBE050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C4CB-8772-4524-AEBB-25E38B6C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4C13-6842-401A-862E-9F3C5925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392E-3A1D-4467-AB14-829A266B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8281-8A85-410D-B739-4B19E28C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9E03-8526-45CC-85F5-5A96496E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9AA2-8D93-4208-8119-71CA1C6B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552B-6985-4534-B031-3DAAED7D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BD95-7EFE-411D-9FF2-1AED1D8C1C5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03A5-D5D0-4061-AA94-C916B3C5E8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hsls.pitt.edu/phia/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mailto:folb@pitt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Evaluating and Addressing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e Information Needs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of an Urban Public Health Department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rough an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Academic Health Sciences Library Health Department Partnership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5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er:  Barbara Folb, ML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Sciences Library System, University of Pittsbur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0" y="235080"/>
          <a:ext cx="867420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080"/>
                    <a:ext cx="86742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4876920" y="5181480"/>
            <a:ext cx="3809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U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1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use (1-10)     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 (11- )          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260280" y="149400"/>
          <a:ext cx="6286680" cy="65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149400"/>
                    <a:ext cx="628668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1" name=""/>
          <p:cNvGrpSpPr/>
          <p:nvPr/>
        </p:nvGrpSpPr>
        <p:grpSpPr>
          <a:xfrm>
            <a:off x="6781680" y="914400"/>
            <a:ext cx="2362320" cy="1572120"/>
            <a:chOff x="6781680" y="914400"/>
            <a:chExt cx="2362320" cy="1572120"/>
          </a:xfrm>
        </p:grpSpPr>
        <p:sp>
          <p:nvSpPr>
            <p:cNvPr id="242" name=""/>
            <p:cNvSpPr/>
            <p:nvPr/>
          </p:nvSpPr>
          <p:spPr>
            <a:xfrm>
              <a:off x="6781680" y="914400"/>
              <a:ext cx="23623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Maj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Sub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6781680" y="914400"/>
              <a:ext cx="492120" cy="1552680"/>
              <a:chOff x="6781680" y="914400"/>
              <a:chExt cx="492120" cy="1552680"/>
            </a:xfrm>
          </p:grpSpPr>
          <p:sp>
            <p:nvSpPr>
              <p:cNvPr id="244" name=""/>
              <p:cNvSpPr/>
              <p:nvPr/>
            </p:nvSpPr>
            <p:spPr>
              <a:xfrm>
                <a:off x="6781680" y="914400"/>
                <a:ext cx="45720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816600" y="2085840"/>
                <a:ext cx="457200" cy="3812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228600" y="0"/>
          <a:ext cx="739152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7391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6019920" y="5181480"/>
            <a:ext cx="2666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confidence        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confidence 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confidence        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Sites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b Sites Us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3192120"/>
            <a:ext cx="403380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viest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ne b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/State ag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2640" y="3276360"/>
            <a:ext cx="4033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er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x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C Wo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47880" y="1981080"/>
            <a:ext cx="5448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number of web sites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number of users per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228600" y="166680"/>
          <a:ext cx="5638680" cy="5943600"/>
        </p:xfrm>
        <a:graphic>
          <a:graphicData uri="http://schemas.openxmlformats.org/drawingml/2006/table">
            <a:tbl>
              <a:tblPr/>
              <a:tblGrid>
                <a:gridCol w="3382920"/>
                <a:gridCol w="2255760"/>
              </a:tblGrid>
              <a:tr h="6145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s used more than 1/da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ONS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6095880" y="876240"/>
            <a:ext cx="2819520" cy="324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Gov A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Reg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Lit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Phone B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Data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72280" y="1438200"/>
            <a:ext cx="41112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72280" y="2038320"/>
            <a:ext cx="411120" cy="3524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72280" y="2597040"/>
            <a:ext cx="411120" cy="352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72280" y="3138480"/>
            <a:ext cx="411120" cy="35244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72280" y="933480"/>
            <a:ext cx="411120" cy="35244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72280" y="3643200"/>
            <a:ext cx="411120" cy="35244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2496960" y="252360"/>
          <a:ext cx="6494760" cy="6386400"/>
        </p:xfrm>
        <a:graphic>
          <a:graphicData uri="http://schemas.openxmlformats.org/drawingml/2006/table">
            <a:tbl>
              <a:tblPr/>
              <a:tblGrid>
                <a:gridCol w="4832640"/>
                <a:gridCol w="1662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209520" y="766800"/>
            <a:ext cx="22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6-25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6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3048120" y="142920"/>
          <a:ext cx="5486400" cy="6324480"/>
        </p:xfrm>
        <a:graphic>
          <a:graphicData uri="http://schemas.openxmlformats.org/drawingml/2006/table">
            <a:tbl>
              <a:tblPr/>
              <a:tblGrid>
                <a:gridCol w="4313160"/>
                <a:gridCol w="1173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457200" y="1222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tes used 1-5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7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3581280" y="176040"/>
          <a:ext cx="5257800" cy="6600960"/>
        </p:xfrm>
        <a:graphic>
          <a:graphicData uri="http://schemas.openxmlformats.org/drawingml/2006/table">
            <a:tbl>
              <a:tblPr/>
              <a:tblGrid>
                <a:gridCol w="4118040"/>
                <a:gridCol w="113976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>
            <a:off x="685800" y="1158840"/>
            <a:ext cx="2133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0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8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CHD Information Environment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00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ersed off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ing Room in one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20 print journal subscri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ies on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library privileges for ACHD/GSPH adjunct faculty (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3733920" y="103320"/>
          <a:ext cx="5029200" cy="6324480"/>
        </p:xfrm>
        <a:graphic>
          <a:graphicData uri="http://schemas.openxmlformats.org/drawingml/2006/table">
            <a:tbl>
              <a:tblPr/>
              <a:tblGrid>
                <a:gridCol w="3639960"/>
                <a:gridCol w="1389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685800" y="159696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tal, Any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9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earch Skill Self Rating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Selected web sit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457200" y="1676520"/>
          <a:ext cx="8229600" cy="4206600"/>
        </p:xfrm>
        <a:graphic>
          <a:graphicData uri="http://schemas.openxmlformats.org/drawingml/2006/table">
            <a:tbl>
              <a:tblPr/>
              <a:tblGrid>
                <a:gridCol w="1523880"/>
                <a:gridCol w="838440"/>
                <a:gridCol w="990360"/>
                <a:gridCol w="1386000"/>
                <a:gridCol w="1103400"/>
                <a:gridCol w="1168200"/>
                <a:gridCol w="1219320"/>
              </a:tblGrid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D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nder (18)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bmed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ttcat (1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xnet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1066680" y="6400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6095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Total who used the site, any amount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net Content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85800" y="1752480"/>
          <a:ext cx="7772400" cy="3684600"/>
        </p:xfrm>
        <a:graphic>
          <a:graphicData uri="http://schemas.openxmlformats.org/drawingml/2006/table">
            <a:tbl>
              <a:tblPr/>
              <a:tblGrid>
                <a:gridCol w="216000"/>
                <a:gridCol w="1651680"/>
                <a:gridCol w="2865600"/>
                <a:gridCol w="2794320"/>
                <a:gridCol w="244800"/>
              </a:tblGrid>
              <a:tr h="1191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 there information you wish to access via the Internet that you have not been able to locate or use?  n=1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8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ary, What They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who gave text answers: 27 out of 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needs PHIA can’t address: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s PHIA can address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urnal articles (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chem/engineering info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mer Health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oratory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457200" y="762120"/>
          <a:ext cx="8381880" cy="5533920"/>
        </p:xfrm>
        <a:graphic>
          <a:graphicData uri="http://schemas.openxmlformats.org/drawingml/2006/table">
            <a:tbl>
              <a:tblPr/>
              <a:tblGrid>
                <a:gridCol w="264960"/>
                <a:gridCol w="1721160"/>
                <a:gridCol w="3103560"/>
                <a:gridCol w="3027240"/>
                <a:gridCol w="264960"/>
              </a:tblGrid>
              <a:tr h="2226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nking back on the past work week, were there any times when you needed information (in any format) to accomplish a job-related task, but were unable to obtain the information? n=1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304920" y="304920"/>
          <a:ext cx="8613720" cy="6659280"/>
        </p:xfrm>
        <a:graphic>
          <a:graphicData uri="http://schemas.openxmlformats.org/drawingml/2006/table">
            <a:tbl>
              <a:tblPr/>
              <a:tblGrid>
                <a:gridCol w="1590840"/>
                <a:gridCol w="3342600"/>
                <a:gridCol w="1442520"/>
                <a:gridCol w="2022480"/>
                <a:gridCol w="216000"/>
              </a:tblGrid>
              <a:tr h="1329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barriers did you encounter to obtaining the information? Please check all that apply.</a:t>
                      </a:r>
                      <a:br>
                        <a:rPr sz="2400"/>
                      </a:br>
                      <a:br>
                        <a:rPr sz="1000"/>
                      </a:b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=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(x/1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unable to locate a source for the information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able to locate a source, but not able to obtain the sourc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did not have time to complete the task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source was too expensiv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problems. Please list below.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 was not sure of where to look.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experienced in where and how to locate programs offering data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formation was too generic/ consumer oriented (1)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ectronic Tutorial Intere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685800" y="1981080"/>
          <a:ext cx="7772400" cy="4172040"/>
        </p:xfrm>
        <a:graphic>
          <a:graphicData uri="http://schemas.openxmlformats.org/drawingml/2006/table">
            <a:tbl>
              <a:tblPr/>
              <a:tblGrid>
                <a:gridCol w="4541760"/>
                <a:gridCol w="1614600"/>
                <a:gridCol w="16160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=1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refresher after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substitute to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at 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Conclu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for training demonstra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l employees are highly skilled and  confident using the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 resources underutil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librarian and library collections needed to overcome information barriers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time to sear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knowing where to l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money for fee based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SLS  200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s U of Pittsburgh and UP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 – 25 professional librarians, 36 support and technical staff, plus student assis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– app. 200,000 books, 2,600 journal subscriptions, 2,000 Audiovisuals, 1,700 educational software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8 (99%) of core PH jour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69 PH specialty journ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Training Nee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s on classes– 7 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Med - Internet I  &amp; I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Resources -Evidence Based Public Health – Consumer Health – Grant Funding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ail – Tuesday Info Ti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Internet search tips, sent week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purpose: increase program vi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Information Barri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181160"/>
            <a:ext cx="77724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 search requests/year, 30 other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al article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0 requ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 borr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ate use, stats not retriev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A web si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hsls.pitt.edu/phia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homepage" descr=""/>
          <p:cNvPicPr/>
          <p:nvPr/>
        </p:nvPicPr>
        <p:blipFill>
          <a:blip r:embed="rId1"/>
          <a:stretch/>
        </p:blipFill>
        <p:spPr>
          <a:xfrm>
            <a:off x="866880" y="152280"/>
            <a:ext cx="74102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Links%20Page" descr=""/>
          <p:cNvPicPr/>
          <p:nvPr/>
        </p:nvPicPr>
        <p:blipFill>
          <a:blip r:embed="rId1"/>
          <a:stretch/>
        </p:blipFill>
        <p:spPr>
          <a:xfrm>
            <a:off x="866880" y="-9360"/>
            <a:ext cx="741024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Injury%20Prevention" descr=""/>
          <p:cNvPicPr/>
          <p:nvPr/>
        </p:nvPicPr>
        <p:blipFill>
          <a:blip r:embed="rId1"/>
          <a:stretch/>
        </p:blipFill>
        <p:spPr>
          <a:xfrm>
            <a:off x="990720" y="285840"/>
            <a:ext cx="70866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Continuat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ly contract for document delivery cover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 funded through the  Center for Public Health Practice, GSPH, University of Pittsbur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ngoing Goals of PH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enhanced library services to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the academic/practitioner partnership model for library servic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seminate findings to other health departments and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roject has been funded with Federal funds from the National Library of Medicine, National Institutes of Health, under Contract No. N01-LM-352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s:  Barbara Folb, MLS,  Barbara Epstein, M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further information contact Barbara Folb,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folb@pitt.ed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Steering Committ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ice Kindling, Trai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 Schwartz, Policy Development and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Epstein, 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cy Tannery, Associate Director for Information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Folb, Public Health Librar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uccessful Program Characteristic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name recognition at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potential acces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use of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ant Funding Allo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LM 18 month grant, March 1, 2003- August 31, 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/Project Manager 2 days/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, training, 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copy service support (journal articles, book chapter cop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itial PHIA Surv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y/August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publicity ro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b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1 responses  from a possible 350 (ap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Top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imated use of specific web resources and search eng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9:33:21Z</dcterms:created>
  <dc:creator>techuser</dc:creator>
  <dc:description/>
  <dc:language>en-US</dc:language>
  <cp:lastModifiedBy>techuser</cp:lastModifiedBy>
  <dcterms:modified xsi:type="dcterms:W3CDTF">2004-11-04T20:31:50Z</dcterms:modified>
  <cp:revision>18</cp:revision>
  <dc:subject/>
  <dc:title>PowerPoint Presentation</dc:title>
</cp:coreProperties>
</file>