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861840" y="441000"/>
            <a:ext cx="527544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82320" y="8871120"/>
            <a:ext cx="87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1C6E2F-8A9F-4080-B44C-B7E15169A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920" indent="-35244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7360" indent="-2383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9000" y="1165320"/>
            <a:ext cx="636480" cy="5325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58760" y="141120"/>
            <a:ext cx="1255680" cy="10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79040" y="6416640"/>
            <a:ext cx="7061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7 CPAC Straw Poll Resul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rch 1-3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05000" y="6607800"/>
            <a:ext cx="9147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E42537B1-E8A8-41ED-AC82-3EE46051C84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7485120" y="181080"/>
          <a:ext cx="1380960" cy="112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85120" y="181080"/>
                    <a:ext cx="13809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9880" y="254160"/>
            <a:ext cx="744840" cy="6292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86640" y="6410160"/>
            <a:ext cx="641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717283ED-1301-44C0-B130-65126E02FF6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330200" y="173160"/>
            <a:ext cx="2435400" cy="2011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02200" y="888480"/>
            <a:ext cx="4927680" cy="103356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63680" y="3019320"/>
          <a:ext cx="7418520" cy="81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3680" y="3019320"/>
                    <a:ext cx="741852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1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57240" algn="ctr">
              <a:lnSpc>
                <a:spcPct val="92000"/>
              </a:lnSpc>
              <a:spcAft>
                <a:spcPts val="901"/>
              </a:spcAft>
              <a:buClr>
                <a:srgbClr val="a4001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1080" indent="237960" algn="ctr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3520" indent="237960" algn="ctr">
              <a:lnSpc>
                <a:spcPct val="90000"/>
              </a:lnSpc>
              <a:spcAft>
                <a:spcPts val="90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5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6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45680" y="4406760"/>
            <a:ext cx="7410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0014"/>
                </a:solidFill>
                <a:latin typeface="Baskerville Old Face"/>
              </a:rPr>
              <a:t>March 1-3, 2007</a:t>
            </a:r>
            <a:endParaRPr b="0" lang="en-US" sz="32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8080" y="4992840"/>
            <a:ext cx="7449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0" bIns="46080" anchor="t">
            <a:sp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40014"/>
                </a:solidFill>
                <a:latin typeface="Baskerville Old Face"/>
              </a:rPr>
              <a:t>N =  1,705 CPAC Registra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459240" y="759960"/>
            <a:ext cx="4927680" cy="128124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2526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40014"/>
                </a:solidFill>
                <a:latin typeface="Baskerville Old Face"/>
              </a:rPr>
              <a:t>CPAC Straw Poll Results</a:t>
            </a:r>
            <a:endParaRPr b="1" lang="en-US" sz="45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694720" y="6313320"/>
            <a:ext cx="44928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98480" y="129240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INDIVIDUAL FREEDOM AND REDUCE SIZE OF GOV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8480" y="1407960"/>
            <a:ext cx="63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TRADITIONAL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22360" y="1407960"/>
            <a:ext cx="70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SECURE AND GUARANTEE SAF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96800" y="15192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Now from the same list – who would be your SECOND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5776200" y="6149880"/>
            <a:ext cx="329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less than 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0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46000" y="1481040"/>
          <a:ext cx="808992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81040"/>
                    <a:ext cx="808992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35240" y="1030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Type of Registrant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4760" y="450720"/>
          <a:ext cx="9855360" cy="664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760" y="450720"/>
                    <a:ext cx="9855360" cy="664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Age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46000" y="1407960"/>
          <a:ext cx="8205840" cy="474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07960"/>
                    <a:ext cx="820584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Gender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-517680" y="162000"/>
          <a:ext cx="10623600" cy="664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17680" y="162000"/>
                    <a:ext cx="10623600" cy="66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53248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Key Points About Straw Poll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ots collected from Thursday morning through Friday aftern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registrants could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05 ballots represents the largest straw poll in CPAC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36% increase in ballots from CPAC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 States plus DC represented in the ball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6800" y="25200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In your opinion, why did the Republicans suffer the losses they did in last November’s elections? Was it because of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73000" y="1582560"/>
          <a:ext cx="808056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3000" y="1582560"/>
                    <a:ext cx="808056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Do you favor or oppose sending an additional 20,000 troops to Iraq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0200" y="214488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ongly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2820960"/>
            <a:ext cx="31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what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925640" y="1957320"/>
          <a:ext cx="609120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5640" y="195732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f the following comes closest to your opinion regarding America's foreign polic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6200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200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074600" y="1363680"/>
          <a:ext cx="9317160" cy="518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4600" y="1363680"/>
                    <a:ext cx="931716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704960" y="200160"/>
            <a:ext cx="54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How important is it for the next Republican nominee to focus on each of the following iss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All things being equal, would you be MOST likely to support a Republican candidate for President who called themselves a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9044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9044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543040" y="2593800"/>
            <a:ext cx="34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nald Reagan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75080" y="4083120"/>
            <a:ext cx="35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rge W. Bush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NE of the following comes closest to your core beliefs and ideolog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89000" y="1436760"/>
          <a:ext cx="8128080" cy="507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9000" y="1436760"/>
                    <a:ext cx="81280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7T14:40:52Z</dcterms:created>
  <dc:creator> </dc:creator>
  <dc:description/>
  <cp:keywords/>
  <dc:language>en-US</dc:language>
  <cp:lastModifiedBy>davidl</cp:lastModifiedBy>
  <cp:lastPrinted>2000-03-26T19:33:06Z</cp:lastPrinted>
  <dcterms:modified xsi:type="dcterms:W3CDTF">2007-03-03T18:07:31Z</dcterms:modified>
  <cp:revision>532</cp:revision>
  <dc:subject/>
  <dc:title>Presentat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