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media/image6.wmf" ContentType="image/x-wmf"/>
  <Override PartName="/ppt/media/image3.png" ContentType="image/png"/>
  <Override PartName="/ppt/media/image11.wmf" ContentType="image/x-wmf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783720" y="4768560"/>
            <a:ext cx="5480280" cy="3927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ldImg"/>
          </p:nvPr>
        </p:nvSpPr>
        <p:spPr>
          <a:xfrm>
            <a:off x="861840" y="441000"/>
            <a:ext cx="5275440" cy="395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2024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40014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82320" y="8871120"/>
            <a:ext cx="878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EB2C2C7-0A5D-43F1-8875-E71C742D91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83720" y="4768560"/>
            <a:ext cx="5480280" cy="39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53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00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06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53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00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23880" y="0"/>
            <a:ext cx="508320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753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00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206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753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00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23880" y="0"/>
            <a:ext cx="508320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4920" indent="-35244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57360" indent="-2383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23a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4001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89000" y="1165320"/>
            <a:ext cx="636480" cy="53258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158760" y="141120"/>
            <a:ext cx="1255680" cy="10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779040" y="6416640"/>
            <a:ext cx="7061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07 CPAC Straw Poll Results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rch 1-3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505000" y="6607800"/>
            <a:ext cx="91476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2840" bIns="42840" anchor="b">
            <a:spAutoFit/>
          </a:bodyPr>
          <a:p>
            <a:pPr algn="r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fld id="{81112778-5C2C-427B-AB14-2C1B97E0735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7485120" y="181080"/>
          <a:ext cx="1380960" cy="1125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485120" y="181080"/>
                    <a:ext cx="1380960" cy="11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99880" y="254160"/>
            <a:ext cx="744840" cy="62928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86640" y="6410160"/>
            <a:ext cx="64188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2840" bIns="42840" anchor="b">
            <a:spAutoFit/>
          </a:bodyPr>
          <a:p>
            <a:pPr algn="r">
              <a:lnSpc>
                <a:spcPct val="9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fld id="{278011C7-5B96-4FB0-BBE7-F248A2A26D4B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330200" y="173160"/>
            <a:ext cx="2435400" cy="20113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02200" y="888480"/>
            <a:ext cx="4927680" cy="103356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indent="0">
              <a:lnSpc>
                <a:spcPct val="90000"/>
              </a:lnSpc>
              <a:spcBef>
                <a:spcPts val="2024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40014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363680" y="3019320"/>
          <a:ext cx="7418520" cy="819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63680" y="3019320"/>
                    <a:ext cx="741852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4001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  <a:p>
            <a:pPr lvl="1" marL="399960" indent="0" algn="ctr">
              <a:lnSpc>
                <a:spcPct val="9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57240" algn="ctr">
              <a:lnSpc>
                <a:spcPct val="92000"/>
              </a:lnSpc>
              <a:spcAft>
                <a:spcPts val="901"/>
              </a:spcAft>
              <a:buClr>
                <a:srgbClr val="a40014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81080" indent="237960" algn="ctr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33520" indent="237960" algn="ctr">
              <a:lnSpc>
                <a:spcPct val="90000"/>
              </a:lnSpc>
              <a:spcAft>
                <a:spcPts val="901"/>
              </a:spcAft>
              <a:buClr>
                <a:srgbClr val="0023a0"/>
              </a:buClr>
              <a:buSzPct val="90000"/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  <a:p>
            <a:pPr lvl="5" marL="1433520" indent="2379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  <a:p>
            <a:pPr lvl="6" marL="1433520" indent="2379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345680" y="4406760"/>
            <a:ext cx="7410600" cy="57168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40014"/>
                </a:solidFill>
                <a:latin typeface="Baskerville Old Face"/>
              </a:rPr>
              <a:t>March 1-3, 2007</a:t>
            </a:r>
            <a:endParaRPr b="0" lang="en-US" sz="32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78080" y="4992840"/>
            <a:ext cx="74498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0" bIns="46080" anchor="t">
            <a:sp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9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a40014"/>
                </a:solidFill>
                <a:latin typeface="Baskerville Old Face"/>
              </a:rPr>
              <a:t>N =  1,705 CPAC Registran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3459240" y="759960"/>
            <a:ext cx="4927680" cy="128124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2526"/>
              </a:spcBef>
              <a:spcAft>
                <a:spcPts val="16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a40014"/>
                </a:solidFill>
                <a:latin typeface="Baskerville Old Face"/>
              </a:rPr>
              <a:t>CPAC Straw Poll Results</a:t>
            </a:r>
            <a:endParaRPr b="1" lang="en-US" sz="45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694720" y="6313320"/>
            <a:ext cx="449280" cy="36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98480" y="1292400"/>
            <a:ext cx="634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INDIVIDUAL FREEDOM AND REDUCE SIZE OF GOV’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98480" y="1407960"/>
            <a:ext cx="634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TRADITIONAL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22360" y="1407960"/>
            <a:ext cx="706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SECURE AND GUARANTEE SAFE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96800" y="151920"/>
            <a:ext cx="609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Now from the same list – who would be your SECOND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5776200" y="6149880"/>
            <a:ext cx="329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less than 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COMBO 1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st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and 2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nd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Choice – </a:t>
            </a:r>
            <a:br>
              <a:rPr sz="2400"/>
            </a:b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545160" y="5834160"/>
            <a:ext cx="243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&amp; 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Choice Combi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COMBO 1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st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and 2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nd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Choice – </a:t>
            </a:r>
            <a:br>
              <a:rPr sz="2400"/>
            </a:b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Republican Nominee for President in 2000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846000" y="1481040"/>
          <a:ext cx="8089920" cy="474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6000" y="1481040"/>
                    <a:ext cx="808992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6545160" y="5834160"/>
            <a:ext cx="243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&amp; 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Choice Combi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35240" y="10303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STORICAL COMPAR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2520" y="252000"/>
            <a:ext cx="60087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Type of Registrant</a:t>
            </a:r>
            <a:endParaRPr b="1" lang="en-US" sz="35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04760" y="450720"/>
          <a:ext cx="9855360" cy="6647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760" y="450720"/>
                    <a:ext cx="9855360" cy="664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Age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846000" y="1407960"/>
          <a:ext cx="8205840" cy="474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6000" y="1407960"/>
                    <a:ext cx="8205840" cy="47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2520" y="252000"/>
            <a:ext cx="60087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Gender</a:t>
            </a:r>
            <a:endParaRPr b="1" lang="en-US" sz="35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-517680" y="162000"/>
          <a:ext cx="10623600" cy="664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517680" y="162000"/>
                    <a:ext cx="10623600" cy="66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53248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40014"/>
                </a:solidFill>
                <a:latin typeface="Arial"/>
              </a:rPr>
              <a:t>Key Points About Straw Poll</a:t>
            </a: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lots collected from Thursday morning through Friday aftern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registrants could v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05 ballots represents the largest straw poll in CPAC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s a 36% increase in ballots from CPAC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9 States plus DC represented in the ballo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96800" y="252000"/>
            <a:ext cx="609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In your opinion, why did the Republicans suffer the losses they did in last November’s elections? Was it because of…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873000" y="1582560"/>
          <a:ext cx="8080560" cy="474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73000" y="1582560"/>
                    <a:ext cx="808056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Do you favor or oppose sending an additional 20,000 troops to Iraq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770200" y="214488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rongly Fav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19520" y="2820960"/>
            <a:ext cx="31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mewhat Fav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925640" y="1957320"/>
          <a:ext cx="6091200" cy="4064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25640" y="195732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Which of the following comes closest to your opinion regarding America's foreign policy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062000" y="1692360"/>
          <a:ext cx="8082000" cy="454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2000" y="1692360"/>
                    <a:ext cx="8082000" cy="45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074600" y="1363680"/>
          <a:ext cx="9317160" cy="5180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74600" y="1363680"/>
                    <a:ext cx="9317160" cy="51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1704960" y="200160"/>
            <a:ext cx="541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How important is it for the next Republican nominee to focus on each of the following issu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All things being equal, would you be MOST likely to support a Republican candidate for President who called themselves a…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090440" y="1692360"/>
          <a:ext cx="8082000" cy="454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90440" y="1692360"/>
                    <a:ext cx="8082000" cy="45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2543040" y="2593800"/>
            <a:ext cx="340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onald Reagan Republi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75080" y="4083120"/>
            <a:ext cx="354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orge W. Bush Republi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Which ONE of the following comes closest to your core beliefs and ideology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089000" y="1436760"/>
          <a:ext cx="8128080" cy="507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9000" y="1436760"/>
                    <a:ext cx="8128080" cy="50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07T14:40:52Z</dcterms:created>
  <dc:creator> </dc:creator>
  <dc:description/>
  <cp:keywords/>
  <dc:language>en-US</dc:language>
  <cp:lastModifiedBy>davidl</cp:lastModifiedBy>
  <cp:lastPrinted>2000-03-26T19:33:06Z</cp:lastPrinted>
  <dcterms:modified xsi:type="dcterms:W3CDTF">2007-03-03T18:07:31Z</dcterms:modified>
  <cp:revision>532</cp:revision>
  <dc:subject/>
  <dc:title>Presentation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